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976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30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6320" y="632448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Visual 6.</a:t>
            </a:r>
            <a:fld id="{2A220BF4-3EC8-49E7-979B-6A9FE9BC031E}" type="slidenum">
              <a:rPr b="0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Organización del CER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escribir la organización del CER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dentificar cómo se interrelaciona el CERT con el Sistema de Comando de Incidentes (IC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xplicar los requerimientos de documenta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181480" y="3289320"/>
            <a:ext cx="229104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Objetivo de la Administración en la Escen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antener la seguridad de los trabajadores en el desastr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roporcionar liderazgo claro y estructura organizaciona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ejorar la efectividad de los esfuerzos de resca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29200" y="4118040"/>
            <a:ext cx="3124080" cy="2116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90720" y="4118040"/>
            <a:ext cx="312408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Necesidad de Organización de un CER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roporciona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Terminología común que contribuye a una comunicación efectiva y a un entendimiento compartid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municación efectiva entre los miembros del equip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Una estructura administrativa bien definid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sponsabilidad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34120" y="4159080"/>
            <a:ext cx="297180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Objetivos de la Organización del CER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dentifica el alcance del inciden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etermina una estrategia globa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espliega recurs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ocumenta acciones y resultad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800600" y="3797280"/>
            <a:ext cx="35053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l CERT y el Sistema de Comando de Incidentes (IC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644480"/>
            <a:ext cx="85345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 u="sng">
                <a:solidFill>
                  <a:srgbClr val="000099"/>
                </a:solidFill>
                <a:uFillTx/>
                <a:latin typeface="Arial"/>
              </a:rPr>
              <a:t>Estructura Básica del Sistema de Comando de Incidentes (IC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2195640"/>
            <a:ext cx="206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Arial"/>
              </a:rPr>
              <a:t>Comandante del Incid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9600" y="35053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Arial"/>
              </a:rPr>
              <a:t>Jefe de Sección de Oper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35053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Arial"/>
              </a:rPr>
              <a:t>Jefe de Sección de Logís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9320" y="35053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Arial"/>
              </a:rPr>
              <a:t>Jefe de Sección de Plane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62760" y="35053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Arial"/>
              </a:rPr>
              <a:t>Jefe de Sección Administr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Estructura del CER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24080" y="1119240"/>
            <a:ext cx="46386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 u="sng">
                <a:solidFill>
                  <a:srgbClr val="000099"/>
                </a:solidFill>
                <a:uFillTx/>
                <a:latin typeface="Arial"/>
              </a:rPr>
              <a:t>Estructura de Comando del CER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4320" y="1728720"/>
            <a:ext cx="2133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99"/>
                </a:solidFill>
                <a:latin typeface="Arial"/>
              </a:rPr>
              <a:t>Jefe de Sección de Operacio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281448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Arial"/>
              </a:rPr>
              <a:t>Líder de Grupo de Combate de Incen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62400" y="2814480"/>
            <a:ext cx="234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Arial"/>
              </a:rPr>
              <a:t>Líder de Grupo de Búsqueda y Resc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62680" y="2971800"/>
            <a:ext cx="23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Arial"/>
              </a:rPr>
              <a:t>Líder de Grupo Méd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05000" y="3809880"/>
            <a:ext cx="1833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99"/>
                </a:solidFill>
                <a:latin typeface="Arial"/>
              </a:rPr>
              <a:t>Equipo A d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99"/>
                </a:solidFill>
                <a:latin typeface="Arial"/>
              </a:rPr>
              <a:t>Combate de Incendi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09680" y="4435560"/>
            <a:ext cx="1833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99"/>
                </a:solidFill>
                <a:latin typeface="Arial"/>
              </a:rPr>
              <a:t>Equipo B 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99"/>
                </a:solidFill>
                <a:latin typeface="Arial"/>
              </a:rPr>
              <a:t>Combate de Incendi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14360" y="5092560"/>
            <a:ext cx="1833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99"/>
                </a:solidFill>
                <a:latin typeface="Arial"/>
              </a:rPr>
              <a:t>Equipo C 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99"/>
                </a:solidFill>
                <a:latin typeface="Arial"/>
              </a:rPr>
              <a:t>Combate de Incendi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09680" y="5845320"/>
            <a:ext cx="183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99"/>
                </a:solidFill>
                <a:latin typeface="Arial"/>
              </a:rPr>
              <a:t>Área de Práctic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24360" y="3755880"/>
            <a:ext cx="1833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99"/>
                </a:solidFill>
                <a:latin typeface="Arial"/>
              </a:rPr>
              <a:t>Equipo A 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99"/>
                </a:solidFill>
                <a:latin typeface="Arial"/>
              </a:rPr>
              <a:t>Búsqueda y Resc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4433760"/>
            <a:ext cx="1833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99"/>
                </a:solidFill>
                <a:latin typeface="Arial"/>
              </a:rPr>
              <a:t>Equipo B 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99"/>
                </a:solidFill>
                <a:latin typeface="Arial"/>
              </a:rPr>
              <a:t>Búsqueda y Resc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33720" y="5091120"/>
            <a:ext cx="1833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99"/>
                </a:solidFill>
                <a:latin typeface="Arial"/>
              </a:rPr>
              <a:t>Equipo C 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99"/>
                </a:solidFill>
                <a:latin typeface="Arial"/>
              </a:rPr>
              <a:t>Búsqueda y Resc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34000" y="3755880"/>
            <a:ext cx="1833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99"/>
                </a:solidFill>
                <a:latin typeface="Arial"/>
              </a:rPr>
              <a:t>Equipo d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99"/>
                </a:solidFill>
                <a:latin typeface="Arial"/>
              </a:rPr>
              <a:t>Triaj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39040" y="4433760"/>
            <a:ext cx="1833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99"/>
                </a:solidFill>
                <a:latin typeface="Arial"/>
              </a:rPr>
              <a:t>Equipo d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99"/>
                </a:solidFill>
                <a:latin typeface="Arial"/>
              </a:rPr>
              <a:t>Tratamien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43720" y="5091120"/>
            <a:ext cx="1833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99"/>
                </a:solidFill>
                <a:latin typeface="Arial"/>
              </a:rPr>
              <a:t>Equipo 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99"/>
                </a:solidFill>
                <a:latin typeface="Arial"/>
              </a:rPr>
              <a:t>Morgu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Toma de Decisiones en el CER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años considerables = No hay resca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años moderados =  Minimizar rescatadores y tiempo en el edifici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años ligeros = Localizar, triaje, tratar y prioratizar la remoción de víctim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219320" y="4132440"/>
            <a:ext cx="3124080" cy="2116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876920" y="4114800"/>
            <a:ext cx="312408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Responsabilidades de Documentació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roporcionar al puesto de comando información continu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ocumentar el estado del inciden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Ubicaciones del inciden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utas de acces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eligros identificad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ocaciones de sopor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257800" y="3200400"/>
            <a:ext cx="2300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7:44:42Z</dcterms:created>
  <dc:creator>Eileen West</dc:creator>
  <dc:description/>
  <dc:language>en-US</dc:language>
  <cp:lastModifiedBy>Cristina Sánchez Galindo</cp:lastModifiedBy>
  <cp:lastPrinted>2001-11-28T13:14:08Z</cp:lastPrinted>
  <dcterms:modified xsi:type="dcterms:W3CDTF">2003-08-06T22:36:58Z</dcterms:modified>
  <cp:revision>270</cp:revision>
  <dc:subject/>
  <dc:title>September 11, 2001 Lessons Learned</dc:title>
</cp:coreProperties>
</file>