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9480" y="374976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1400" y="160020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74976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1400" y="374976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63400" y="160020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17320" y="160020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09480" y="374976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63400" y="374976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17320" y="374976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1400" y="160020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1430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1400" y="160020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09480" y="374976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1400" y="160020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1400" y="374976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1400" y="160020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374976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76320" y="632448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Visual 7.</a:t>
            </a:r>
            <a:fld id="{2D8813ED-3804-4C15-A3A8-D1D2884F1E4B}" type="slidenum">
              <a:rPr b="0" lang="en-US" sz="14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Objetivos de la Unidad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-495360">
              <a:spcBef>
                <a:spcPts val="601"/>
              </a:spcBef>
              <a:buClr>
                <a:srgbClr val="000099"/>
              </a:buClr>
              <a:buSzPct val="12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Describir el ambiente emocional durante y después del desastr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99"/>
              </a:buClr>
              <a:buSzPct val="12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Describir los pasos que los rescatadores pueden tomar para aliviar su propio estrés y el de los sobrevivient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5486400" y="4114800"/>
            <a:ext cx="2819520" cy="20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Estrés Post-traumático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El estrés post-traumático puede afectar: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El funcionamiento cognitivo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La salud física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Las relaciones interpersonal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572000" y="3505320"/>
            <a:ext cx="3784680" cy="26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Factores Medicinale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Experiencia previa con un evento similar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Intensidad de la interrupción en las vidas de los sobrevivient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Sentimientos individuales de que no existe escape, lo cual genera pánico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Fuerza emocional de la persona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Período de tiempo transcurrido desde que ocurrió el evento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Estabilización de la persona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Determine las lesiones y el choque de los sobrevivient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Permita que las personas no lesionadas le ayuden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Proporcione ayuda: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Escuchando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Mostrando empatía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Ayude a los sobrevivientes a conectarse con sus sistemas naturales de soport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5454720" y="4524480"/>
            <a:ext cx="2651040" cy="182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Evite decir . . .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Lo entiendo.”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No se sienta mal.”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Usted es fuerte/Usted puede superar esto.”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No llore.”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Son los deseos de Dios.”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Podría ser peor” ó “Por lo menos todavía tiene . . .”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Manejo de la Escena de Fallecimiento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Cubra el cuerpo; trátelo con respeto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Permita que un miembro de la familia vea el cuerpo y decida si el resto de la familia debe verlo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Permita que los miembros de la familia sostengan o pasen tiempo con la persona fallecida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Permita que la familia externe su pena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Informar a la Familia Sobre una Muert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99"/>
                </a:solidFill>
                <a:uFillTx/>
                <a:latin typeface="Arial"/>
              </a:rPr>
              <a:t>Separe a los miembros de la familia</a:t>
            </a: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 de los demás en un lugar privado y sin ruido.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99"/>
                </a:solidFill>
                <a:uFillTx/>
                <a:latin typeface="Arial"/>
              </a:rPr>
              <a:t>Haga que la(s) persona(s) se siente(n)</a:t>
            </a: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, si es posible.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99"/>
                </a:solidFill>
                <a:uFillTx/>
                <a:latin typeface="Arial"/>
              </a:rPr>
              <a:t>Realice contacto visual</a:t>
            </a: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 y utilice una voz calmada y amable.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Utilice las siguientes palabras para </a:t>
            </a:r>
            <a:r>
              <a:rPr b="0" lang="es-ES_tradnl" sz="2400" spc="-1" strike="noStrike" u="sng">
                <a:solidFill>
                  <a:srgbClr val="000099"/>
                </a:solidFill>
                <a:uFillTx/>
                <a:latin typeface="Arial"/>
              </a:rPr>
              <a:t>informar a los miembros de la familia</a:t>
            </a: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 sobre el fallecimiento:  “Lo siento, pero su familiar ha muerto.  Lo siento mucho.”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Trauma Indirecto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El proceso de cambios en el rescatador como resultado de la relación de empatía con los sobrevivient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Posibles Síntomas Sicológico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524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99"/>
                </a:solidFill>
                <a:latin typeface="Arial"/>
              </a:rPr>
              <a:t>Irritabilidad, enojo</a:t>
            </a:r>
            <a:endParaRPr b="0" lang="en-US" sz="2100" spc="-1" strike="noStrike">
              <a:solidFill>
                <a:srgbClr val="000099"/>
              </a:solidFill>
              <a:latin typeface="Arial"/>
            </a:endParaRPr>
          </a:p>
          <a:p>
            <a:pPr marL="329040" indent="-329040">
              <a:spcBef>
                <a:spcPts val="524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99"/>
                </a:solidFill>
                <a:latin typeface="Arial"/>
              </a:rPr>
              <a:t>Culparse a sí mismo y a los demás</a:t>
            </a:r>
            <a:endParaRPr b="0" lang="en-US" sz="2100" spc="-1" strike="noStrike">
              <a:solidFill>
                <a:srgbClr val="000099"/>
              </a:solidFill>
              <a:latin typeface="Arial"/>
            </a:endParaRPr>
          </a:p>
          <a:p>
            <a:pPr marL="329040" indent="-329040">
              <a:spcBef>
                <a:spcPts val="524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99"/>
                </a:solidFill>
                <a:latin typeface="Arial"/>
              </a:rPr>
              <a:t>Aislamiento, reclusión</a:t>
            </a:r>
            <a:endParaRPr b="0" lang="en-US" sz="2100" spc="-1" strike="noStrike">
              <a:solidFill>
                <a:srgbClr val="000099"/>
              </a:solidFill>
              <a:latin typeface="Arial"/>
            </a:endParaRPr>
          </a:p>
          <a:p>
            <a:pPr marL="329040" indent="-329040">
              <a:spcBef>
                <a:spcPts val="524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99"/>
                </a:solidFill>
                <a:latin typeface="Arial"/>
              </a:rPr>
              <a:t>Temor a que recurra</a:t>
            </a:r>
            <a:endParaRPr b="0" lang="en-US" sz="2100" spc="-1" strike="noStrike">
              <a:solidFill>
                <a:srgbClr val="000099"/>
              </a:solidFill>
              <a:latin typeface="Arial"/>
            </a:endParaRPr>
          </a:p>
          <a:p>
            <a:pPr marL="329040" indent="-329040">
              <a:spcBef>
                <a:spcPts val="524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99"/>
                </a:solidFill>
                <a:latin typeface="Arial"/>
              </a:rPr>
              <a:t>Sensación de incredulidad, entumecimiento o saturación</a:t>
            </a:r>
            <a:endParaRPr b="0" lang="en-US" sz="2100" spc="-1" strike="noStrike">
              <a:solidFill>
                <a:srgbClr val="000099"/>
              </a:solidFill>
              <a:latin typeface="Arial"/>
            </a:endParaRPr>
          </a:p>
          <a:p>
            <a:pPr marL="329040" indent="-329040">
              <a:spcBef>
                <a:spcPts val="524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99"/>
                </a:solidFill>
                <a:latin typeface="Arial"/>
              </a:rPr>
              <a:t>Sensación de desesperación</a:t>
            </a:r>
            <a:endParaRPr b="0" lang="en-US" sz="2100" spc="-1" strike="noStrike">
              <a:solidFill>
                <a:srgbClr val="000099"/>
              </a:solidFill>
              <a:latin typeface="Arial"/>
            </a:endParaRPr>
          </a:p>
          <a:p>
            <a:pPr marL="329040" indent="-329040">
              <a:spcBef>
                <a:spcPts val="524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99"/>
                </a:solidFill>
                <a:latin typeface="Arial"/>
              </a:rPr>
              <a:t>Cambios de humor</a:t>
            </a:r>
            <a:endParaRPr b="0" lang="en-US" sz="2100" spc="-1" strike="noStrike">
              <a:solidFill>
                <a:srgbClr val="000099"/>
              </a:solidFill>
              <a:latin typeface="Arial"/>
            </a:endParaRPr>
          </a:p>
          <a:p>
            <a:pPr marL="329040" indent="-329040">
              <a:spcBef>
                <a:spcPts val="524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99"/>
                </a:solidFill>
                <a:latin typeface="Arial"/>
              </a:rPr>
              <a:t>Tristeza, depresión, consternación</a:t>
            </a:r>
            <a:endParaRPr b="0" lang="en-US" sz="2100" spc="-1" strike="noStrike">
              <a:solidFill>
                <a:srgbClr val="000099"/>
              </a:solidFill>
              <a:latin typeface="Arial"/>
            </a:endParaRPr>
          </a:p>
          <a:p>
            <a:pPr marL="329040" indent="-329040">
              <a:spcBef>
                <a:spcPts val="524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99"/>
                </a:solidFill>
                <a:latin typeface="Arial"/>
              </a:rPr>
              <a:t>Negación</a:t>
            </a:r>
            <a:endParaRPr b="0" lang="en-US" sz="2100" spc="-1" strike="noStrike">
              <a:solidFill>
                <a:srgbClr val="000099"/>
              </a:solidFill>
              <a:latin typeface="Arial"/>
            </a:endParaRPr>
          </a:p>
          <a:p>
            <a:pPr marL="329040" indent="-329040">
              <a:spcBef>
                <a:spcPts val="524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99"/>
                </a:solidFill>
                <a:latin typeface="Arial"/>
              </a:rPr>
              <a:t>Problemas de concentración y memoria</a:t>
            </a:r>
            <a:endParaRPr b="0" lang="en-US" sz="2100" spc="-1" strike="noStrike">
              <a:solidFill>
                <a:srgbClr val="000099"/>
              </a:solidFill>
              <a:latin typeface="Arial"/>
            </a:endParaRPr>
          </a:p>
          <a:p>
            <a:pPr marL="329040" indent="-329040">
              <a:spcBef>
                <a:spcPts val="524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99"/>
                </a:solidFill>
                <a:latin typeface="Arial"/>
              </a:rPr>
              <a:t>Conflictos en las relaciones/problemas matrimoniales</a:t>
            </a:r>
            <a:endParaRPr b="0" lang="en-US" sz="2100" spc="-1" strike="noStrike">
              <a:solidFill>
                <a:srgbClr val="000099"/>
              </a:solidFill>
              <a:latin typeface="Arial"/>
            </a:endParaRPr>
          </a:p>
          <a:p>
            <a:pPr marL="329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Posibles Síntomas Fisiológico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Pérdida del apetito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Dolores de cabeza, dolor de pecho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Diarrea, dolor estomacal, náusea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Hiperactividad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Aumento en el consumo de alcohol o droga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Pesadilla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Insomnio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Fatiga, poca energía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Bienestar del Equipo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Arial"/>
              </a:rPr>
              <a:t>Los líderes del equipo CERT deben: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Arial"/>
              </a:rPr>
              <a:t>Proporcionar capacitación en el manejo de estrés antes del desastr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Arial"/>
              </a:rPr>
              <a:t>Informar al personal antes de la respuesta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Arial"/>
              </a:rPr>
              <a:t>Enfatizar el trabajo en equipo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Arial"/>
              </a:rPr>
              <a:t>Fomentar los descanso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Arial"/>
              </a:rPr>
              <a:t>Proporcionar la nutrición adecuada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Arial"/>
              </a:rPr>
              <a:t>Intercambiar equipo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Arial"/>
              </a:rPr>
              <a:t>Cambiar a los trabajadores gradualment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Arial"/>
              </a:rPr>
              <a:t>Realizar una breve discusió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Arial"/>
              </a:rPr>
              <a:t>Organizar una discusión posterior al evento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Reducción de Estré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Duerma adecuadament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Haga ejercicio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Lleve una dieta balanceada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Logre un balance entre trabajo, juego y descanso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Permítase a sí mismo tanto recibir como dar.  Recuerde que su papel va más allá del de ayudar a alguien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Conéctese con los demá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Utilice recursos espiritual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Informativa sobre Estrés por Incidente Crítico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Seis fases: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Introducción y descripción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Revisar los hechos material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Compartir los pensamientos/sentimientos inicial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Compartir las reacciones emocionales al incident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Instrucciones sobre las reacciones normales de estré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Revisar los síntoma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Recapitular y determinar necesidades futura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Fases de una Crisi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Impacto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Inventario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Rescat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Recuperación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572000" y="3492360"/>
            <a:ext cx="3784680" cy="26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Crisis Traumática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Un evento en el que la gente experimenta o atestigua: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Muerte o lesiones reales o potenciales a sí mismo o los demá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Lesiones seria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Destrucción de hogares, comunidades o posesiones valiosa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Pérdida de contacto con familiares/relaciones cercana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1T17:44:42Z</dcterms:created>
  <dc:creator>Eileen West</dc:creator>
  <dc:description/>
  <dc:language>en-US</dc:language>
  <cp:lastModifiedBy>Cristina Sánchez Galindo</cp:lastModifiedBy>
  <cp:lastPrinted>2001-11-28T13:14:08Z</cp:lastPrinted>
  <dcterms:modified xsi:type="dcterms:W3CDTF">2003-08-12T23:04:58Z</dcterms:modified>
  <cp:revision>278</cp:revision>
  <dc:subject/>
  <dc:title>September 11, 2001 Lessons Learned</dc:title>
</cp:coreProperties>
</file>