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6320" y="63244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isual 8.</a:t>
            </a:r>
            <a:fld id="{52E084D8-94B4-4DE9-B43F-CE4446F22321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Cuerpos Ciudadan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Áreas de atención de los Cuerpos Ciudadano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rim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astres natur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errorism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97560" y="3505320"/>
            <a:ext cx="37843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Agentes Químic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inco tip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mponentes fácilmente accesib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parición de síntomas de manera inmediata hasta 18 horas despué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siderados de riesgo moder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xplosivos Convencional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rmas favoritas” de los terrorist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ueden ser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uniciones milita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ispositivos explosivos improvisa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siderados de alto riesg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62720" y="4165560"/>
            <a:ext cx="27432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¿Cuál es el Riesgo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62120" y="1981080"/>
            <a:ext cx="7619760" cy="3797280"/>
            <a:chOff x="762120" y="1981080"/>
            <a:chExt cx="7619760" cy="379728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838080" y="1981080"/>
              <a:ext cx="754380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16200000">
              <a:off x="194400" y="3462840"/>
              <a:ext cx="1503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mpa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86200" y="5410080"/>
              <a:ext cx="167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menaz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Indicadores B-NI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dicadores Ambientale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nimales, peces o aves enfermos o muert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rrigación no programa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ubes de vapor o neblin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usencia de cosechas, vida silvestre o insect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Indicadores B-NI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dicadores Ambientale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aquetes, cajas o vehículos fuera de lugar u olvida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aquetes que gote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teriales o equipo inusu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xplosiones pequeñas que dispersan líquidos, vapores o gas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lores o sabores inusu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Indicadores B-NI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dicadores Físico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uchas muertes sin señales obvias de traumatism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Víctimas que muestran síntomas simila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Grandes cantidades de personas que buscan atención médic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eparación para el Terrorism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eparar un estuche de suministros para desast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dentificar una habitación segura y un lugar de reunión fuera del hogar o lugar de trabaj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arrollar un plan de comunicación famili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prender los procedimientos de albergue en siti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76920" y="4087800"/>
            <a:ext cx="32511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ocedimientos de Albergue en Siti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errar el sistema de ventil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r a la habitación segura con el estuche de suministros de desast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ubrir con hojas de plástico y cinta aislante todas las aberturas por las que pueda entrar el a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ellar con cinta aislante otras áreas por las que pueda entrar el a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cuchar una radio de baterías para comprobar que haya pasado el peligr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incipios que Guían a los CER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 seguridad del equipo es la prioridad número un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empre realice una valoración profun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¿Cuáles son los peligr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¿Cuáles son las capacidades del equipo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¿Cuáles son las limitaciones del equipo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Los CERTs y los Incidentes Terrorist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¡No lo toque!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léjese del objeto o áre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pórtelo a las autoridad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¡Precaución!  El uso de teléfonos celulares o radios de intercomunicación puede detonar un dispositivo explosivo!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Objetivos de la Unida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finir terrorism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dentificar blancos potenciales en la comunida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dentificar procedimientos operativos del CERT para un incidente de terrorism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cribir las acciones a tomar después de un incidente de supuesto terrorism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43308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Autocuidado Durante Incidentes Terrorist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n el incidente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imite el tiempo de exposi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umente su distancia del peligr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gregue protec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638680" y="4089240"/>
            <a:ext cx="27432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Procedimientos Básicos de Descontaminación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léjese del área contamina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ome acciones de descontamin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Quítese toda la rop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ávese las manos antes de usarlas para tomar una duch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ome una ducha o lávese con agua </a:t>
            </a: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frí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équese bi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porte la descontamin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tablecimiento de Zon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1905120"/>
            <a:ext cx="2286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c2577"/>
                </a:solidFill>
                <a:latin typeface="Arial"/>
              </a:rPr>
              <a:t>“</a:t>
            </a:r>
            <a:r>
              <a:rPr b="1" lang="es-ES_tradnl" sz="2000" spc="-1" strike="noStrike">
                <a:solidFill>
                  <a:srgbClr val="0c2577"/>
                </a:solidFill>
                <a:latin typeface="Arial"/>
              </a:rPr>
              <a:t>Zona Fría”</a:t>
            </a:r>
            <a:br>
              <a:rPr sz="2000"/>
            </a:br>
            <a:r>
              <a:rPr b="1" lang="es-ES_tradnl" sz="1600" spc="-1" strike="noStrike">
                <a:solidFill>
                  <a:srgbClr val="0c2577"/>
                </a:solidFill>
                <a:latin typeface="Arial"/>
              </a:rPr>
              <a:t>Area Seg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4120" y="3276720"/>
            <a:ext cx="3809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c2577"/>
                </a:solidFill>
                <a:latin typeface="Arial"/>
              </a:rPr>
              <a:t>“</a:t>
            </a:r>
            <a:r>
              <a:rPr b="1" lang="es-ES_tradnl" sz="2000" spc="-1" strike="noStrike">
                <a:solidFill>
                  <a:srgbClr val="0c2577"/>
                </a:solidFill>
                <a:latin typeface="Arial"/>
              </a:rPr>
              <a:t>Zona Tibia”</a:t>
            </a:r>
            <a:br>
              <a:rPr sz="2000"/>
            </a:br>
            <a:r>
              <a:rPr b="1" lang="es-ES_tradnl" sz="1600" spc="-1" strike="noStrike">
                <a:solidFill>
                  <a:srgbClr val="0c2577"/>
                </a:solidFill>
                <a:latin typeface="Arial"/>
              </a:rPr>
              <a:t>Area de Evacuación y Desconta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90800" y="44956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c2577"/>
                </a:solidFill>
                <a:latin typeface="Arial"/>
              </a:rPr>
              <a:t>“</a:t>
            </a:r>
            <a:r>
              <a:rPr b="1" lang="es-ES_tradnl" sz="2000" spc="-1" strike="noStrike">
                <a:solidFill>
                  <a:srgbClr val="0c2577"/>
                </a:solidFill>
                <a:latin typeface="Arial"/>
              </a:rPr>
              <a:t>Zona Calient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95720" y="5315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c2577"/>
                </a:solidFill>
                <a:latin typeface="Arial"/>
              </a:rPr>
              <a:t>Incid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7920" y="5686560"/>
            <a:ext cx="153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c2577"/>
                </a:solidFill>
                <a:latin typeface="Arial"/>
              </a:rPr>
              <a:t>Area Contami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680" y="141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c2577"/>
                </a:solidFill>
                <a:latin typeface="Arial"/>
              </a:rPr>
              <a:t>Dirección del V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etas de los Terrorist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uertes masiv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érdida de recursos valios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terrupción de servicios vit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terrupción de la economí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ánico individual y masiv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638680" y="4114800"/>
            <a:ext cx="27432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Armas Terrorist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ológic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clea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cendiar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Q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ímic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xplosiv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181480" y="3035160"/>
            <a:ext cx="31626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B-NI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dicadores ambient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dicadores físic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62720" y="4165560"/>
            <a:ext cx="27432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Los CERTs y los Incidentes Terrorist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¡Trate los posibles incidentes terroristas como una señal de alto!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o lo toqu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léjes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pórtel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562720" y="4165560"/>
            <a:ext cx="27432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Qué Hacer si Queda Expuest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ome acción inmediatam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léjese del área inmediatam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ga los procedimientos básicos de descontamin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porte la descontamin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¿Qué es terrorismo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uso ilegal de fuerza o violencia cometido por un grupo de personas o individuo contra personas o propiedades para intimidar o chantajear a un gobierno, a la población civil, o a cualquier segmento de ella en busca de un objetivo político o social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-Departamento de Justicia de los Estados Uni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etas del Terrorist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uertes masiv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érdida de recursos vit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terrupción de servicios vit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terrupción de la economí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ánico individual y masiv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562720" y="4165560"/>
            <a:ext cx="27432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Armas Terroristas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ológic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clea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cendiar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Q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ímic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xplosiv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38680" y="4089240"/>
            <a:ext cx="27432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Armas Biológic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Blancos:  gente, animales, cosech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utas de exposición:  inhalación, ingestión, absor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gente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 confirmación puede tardar días o seman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ueden extenderse mucho más allá del punto inicial de contamin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sideradas de alto riesg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86400" y="3809880"/>
            <a:ext cx="2679840" cy="2457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Armas Nuclea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uy diferentes a las armas convencionale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uchas muer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Área afectada muy grand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fectos en la salud a largo plaz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sideradas de relativamente bajo riesg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ispositivos de Dispersión de Radiació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xplosivo convencional con elemento radioactiv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teriales radiológicos fácilmente accesib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siderados de riesgo moderado a al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638680" y="4089240"/>
            <a:ext cx="27432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ispositivos Incendiari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zados para iniciar una combust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áciles de hac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áciles de utiliz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siderados de alto riesgo/bajo impac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62720" y="4165560"/>
            <a:ext cx="27432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Cristina Sánchez Galindo</cp:lastModifiedBy>
  <cp:lastPrinted>2001-11-28T13:14:08Z</cp:lastPrinted>
  <dcterms:modified xsi:type="dcterms:W3CDTF">2003-08-06T23:59:30Z</dcterms:modified>
  <cp:revision>297</cp:revision>
  <dc:subject/>
  <dc:title>September 11, 2001 Lessons Learned</dc:title>
</cp:coreProperties>
</file>