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1.</a:t>
            </a:r>
            <a:fld id="{374C5D06-4A35-4BE9-B973-03D59A2E7B19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lementos Clave de los Desast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n relativamente inesper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personal de emergencia puede estar satur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vida, la salud y el medio ambiente están en pelig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en la Infraestructur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en la transportació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apacidad para determinar el daño con preci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ambulancias no pueden llegar a las víctim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policía no puede llegar a las áreas con disturbios ciudadan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departamentos de bomberos no pueden llegar a los incend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l flujo de suministros necesar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en la Infraestructur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en las estructur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hospitales dañados no pueden funcionar con normal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 riesgo de daños por la caída de escomb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en la Infraestructur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rrupción de comunicacion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víctimas no pueden pedir ayu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coordinación de servicios se dificul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97560" y="3505320"/>
            <a:ext cx="3784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en la Infraestructur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en los servicios públic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 servic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 riesgo de incendios o choques eléctr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érdida de contacto entre las víctimas y los proveedores de servic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uministro inadecuado de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es riesgos en la salud públic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fectos en la Infraestructur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en los suministros de combustibl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yor riesgo de incendio o explosión por la ruptura de tuberías de combust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iesgo de asfixi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81916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iesgos por Instalaciones en el Ho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uptura de tuberías de gas por el movimiento de calentadores o estuf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años por la caída de libros, vajillas y el contenido de gabine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hoque eléctrico por el movimiento de artículos eléctr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cendio por cables rotos, sobrecargados o desgast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guridad Person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s medidas de seguridad personal varían dependiendo d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ipo de even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tipo de advertencia dispon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ubicación durante el evento (esto es, adentro, afuera, conduciendo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en el Hogar/Lugar de Trabaj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itigación de riesgos estructurales y no estructu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ación individual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unir los suministros para el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ar un plan de desast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eparar una habitación segur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81916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Ejemplo de Mitigación de Riesgos Estructurales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con pernos las casas antiguas a sus cimentac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os tanques de propa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eve las instalaciones de servicios públ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as casas móviles a sus ba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ida a un profesional que revise la cimentación, conectores del techo, chimenea, etc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escribir los tipo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s de riesgos ante los cuales es vulnerable la comunida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Describir las funciones de los CERTs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Identificar los pasos de la preparació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0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Ejemplo de Mitigación de Riesgos No Estructurales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ncle el mobiliario pes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os aparatos eléctricos y el equipo de oficin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as puertas de gabinetes con sujetadores a prueba de niñ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lice y marque las válvulas de cierre del gas, la electricidad y el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egure los calentadores de agua e instale tuberías de gas flexi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La Oficina Ejecutiva del Presidente (EOP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signa responsabilidades a las organizaciones y a las person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lece líneas de autorid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ribe la forma en la que se protegerán las personas y las propiedad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 personal, equipo, instalaciones, suministros y otros recurs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os CERTs Ante un Panorama de Desast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an a la primera respuesta cuando así se solici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icialmente asumen muchas de las funciones del personal de respuesta a emergencias hasta que llega la ayuda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guridad ante incend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úsqueda y rescate lig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peraciones médicas ant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n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81916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sumen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son parte de la variedad de agencias y personal que cooperan para proporcionar ayuda posteriormente a un desastr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han sido muy valiosos en las áreas en las que han sido probad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se han convertido en un componente clave del programa de Cuerpos Ciudadan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reparación para un Desast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se deben prepara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ndo riesgos potenciales en sus hogares y lugares de trabaj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duciendo riesgos siempre que sea pos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ando un estuche de suministros para desast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spuesta a un Desast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0920" y="3276720"/>
            <a:ext cx="1955880" cy="2603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deben responder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lizando y apagando los servicios públicos, si esto es segur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guiendo todos los incendios pequeñ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tendiendo las lesi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zando búsquedas y rescate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g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ando a aliviar la tensión de lo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brevivie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oles del CERT Cuando no Ocurra un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miembros del CERT pued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stribuir materiales de prepar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tender los locales de primeros auxilios en eventos espec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ar en la instalación de alarmas contra incend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Cuerpo Ciudadan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Presidente ha hecho un llamado a los estadounidenses para que ayuden voluntariamente a cuidar y salvaguardar la na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Áreas de énfasis en los esfuerzos voluntari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rim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stres Natu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4960" y="3352680"/>
            <a:ext cx="19555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99"/>
                </a:solidFill>
                <a:latin typeface="Arial"/>
              </a:rPr>
              <a:t>Oportunidades de Capacitación Adicionales para el CER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dministración de alberg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laciones comunita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dministración de donativ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tención de necesidades espec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moción de escomb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trol de servicios públ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imeros auxilios avanza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so de Desfibrilador Automático Exter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ucitación cardiopulmon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norama General del Curs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temas de este curso incluye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guridad contra incend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peraciones médicas en caso de desast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úsqueda y rescate liger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rganización del CER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cología de los desast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CERTs y el terrorism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ipos de Desast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atur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casionados por 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omb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ecnológi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57680" y="2133720"/>
            <a:ext cx="53863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eileen west</cp:lastModifiedBy>
  <cp:lastPrinted>2003-07-13T20:13:24Z</cp:lastPrinted>
  <dcterms:modified xsi:type="dcterms:W3CDTF">2003-09-23T16:03:02Z</dcterms:modified>
  <cp:revision>298</cp:revision>
  <dc:subject/>
  <dc:title>September 11, 2001 Lessons Learned</dc:title>
</cp:coreProperties>
</file>