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976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30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6320" y="632448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Visual 2.</a:t>
            </a:r>
            <a:fld id="{A9F2E629-4755-4FC0-838B-2C963E0DC022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99"/>
                </a:solidFill>
                <a:latin typeface="Arial"/>
              </a:rPr>
              <a:t>Introducción y Panorama General de la Unidad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l rol de los CERTs en la seguridad contra incendios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xtinguir incendios pequeño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vitar incendios adicionale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sconectar los servicios público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yudar en evacuaciones cuando sea necesario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334120" y="4191120"/>
            <a:ext cx="281916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Recursos para el Combate de Incendio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cursos disponibles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xtintores portátiles de incendi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uberías de rocío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nfina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cursos “creativos”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486400" y="4102200"/>
            <a:ext cx="28195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Tipos de Extintores de Incendio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gu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Químicos sec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ióxido de carbon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xtintor de incendios especializad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350040" y="3581280"/>
            <a:ext cx="19558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J.A.O.E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99"/>
                </a:solidFill>
                <a:uFillTx/>
                <a:latin typeface="Arial"/>
              </a:rPr>
              <a:t>J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99"/>
                </a:solidFill>
                <a:uFillTx/>
                <a:latin typeface="Arial"/>
              </a:rPr>
              <a:t>A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un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99"/>
                </a:solidFill>
                <a:uFillTx/>
                <a:latin typeface="Arial"/>
              </a:rPr>
              <a:t>O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rim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99"/>
                </a:solidFill>
                <a:uFillTx/>
                <a:latin typeface="Arial"/>
              </a:rPr>
              <a:t>E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xtiend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ruebe el extintor antes de acercarse a un incendio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791320" y="4648320"/>
            <a:ext cx="225720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Seguridad en la Supresión de Incendio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Arial"/>
              </a:rPr>
              <a:t>Sí: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Arial"/>
              </a:rPr>
              <a:t>Utilice equipo de seguridad.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Arial"/>
              </a:rPr>
              <a:t>Trabaje en un sistema de compañeros.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Arial"/>
              </a:rPr>
              <a:t>Cuente con un equipo de respaldo.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Arial"/>
              </a:rPr>
              <a:t>Tenga dos rutas para salir.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Arial"/>
              </a:rPr>
              <a:t>Mantenga una distancia segura.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Arial"/>
              </a:rPr>
              <a:t>Vigile el incendio.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Seguridad en la Supresión de Incendio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NO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tente combatir grandes incendio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e acerque demasiado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o combata solo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ntre a áreas llenas de humo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Materiales Peligrosos . . 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rroen otros materia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xplotan o se incendian fácilmen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accionan fuertemente con agu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on inestables cuando se exponen al calor o el choqu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on tóxicos para los seres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humanos, animales o el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edio ambien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486400" y="4114800"/>
            <a:ext cx="28195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99"/>
                </a:solidFill>
                <a:latin typeface="Arial"/>
              </a:rPr>
              <a:t>Identificación de Materiales Peligrosos Almacenados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4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447920" y="1219320"/>
            <a:ext cx="6324480" cy="5244840"/>
            <a:chOff x="1447920" y="1219320"/>
            <a:chExt cx="6324480" cy="524484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649520" y="1293840"/>
              <a:ext cx="5843520" cy="510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114800" y="1219320"/>
              <a:ext cx="7621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o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47920" y="3657600"/>
              <a:ext cx="761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z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05720" y="3657600"/>
              <a:ext cx="1066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marill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86200" y="6095880"/>
              <a:ext cx="1143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Blan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857680" y="3067200"/>
            <a:ext cx="3543120" cy="35622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99"/>
                </a:solidFill>
                <a:latin typeface="Arial"/>
              </a:rPr>
              <a:t>Identificación de Materiales Peligrosos Almacenados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uadrante de Diamante Blanco NFPA 704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W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  Presenta reactividad inusual al agu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OX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  Posee propiedades oxidan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286000"/>
            <a:ext cx="38088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99"/>
                </a:solidFill>
                <a:latin typeface="Arial"/>
              </a:rPr>
              <a:t>Identificación de Materiales Peligrosos en Tránsito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4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04120" y="1606680"/>
            <a:ext cx="137304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68240" y="1706400"/>
            <a:ext cx="7759800" cy="3822840"/>
            <a:chOff x="768240" y="1706400"/>
            <a:chExt cx="7759800" cy="3822840"/>
          </a:xfrm>
        </p:grpSpPr>
        <p:grpSp>
          <p:nvGrpSpPr>
            <p:cNvPr id="102" name=""/>
            <p:cNvGrpSpPr/>
            <p:nvPr/>
          </p:nvGrpSpPr>
          <p:grpSpPr>
            <a:xfrm>
              <a:off x="887400" y="2390760"/>
              <a:ext cx="7464240" cy="2397240"/>
              <a:chOff x="887400" y="2390760"/>
              <a:chExt cx="7464240" cy="2397240"/>
            </a:xfrm>
          </p:grpSpPr>
          <p:pic>
            <p:nvPicPr>
              <p:cNvPr id="1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38280" y="2424240"/>
                <a:ext cx="1128600" cy="113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71640" y="2408400"/>
                <a:ext cx="1128960" cy="113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105080" y="2390760"/>
                <a:ext cx="1130400" cy="113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364000" y="2390760"/>
                <a:ext cx="1128960" cy="113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624720" y="2390760"/>
                <a:ext cx="1128600" cy="1130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8" name=""/>
              <p:cNvGrpSpPr/>
              <p:nvPr/>
            </p:nvGrpSpPr>
            <p:grpSpPr>
              <a:xfrm>
                <a:off x="887400" y="3641760"/>
                <a:ext cx="7464240" cy="1146240"/>
                <a:chOff x="887400" y="3641760"/>
                <a:chExt cx="7464240" cy="1146240"/>
              </a:xfrm>
            </p:grpSpPr>
            <p:pic>
              <p:nvPicPr>
                <p:cNvPr id="10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87400" y="3641760"/>
                  <a:ext cx="1130400" cy="1130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120760" y="3641760"/>
                  <a:ext cx="1128960" cy="1130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456000" y="3657600"/>
                  <a:ext cx="1128600" cy="1130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724280" y="3641760"/>
                  <a:ext cx="1128600" cy="1130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973840" y="3641760"/>
                  <a:ext cx="1128600" cy="1130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7223040" y="3657600"/>
                  <a:ext cx="1128600" cy="1130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15" name=""/>
            <p:cNvSpPr/>
            <p:nvPr/>
          </p:nvSpPr>
          <p:spPr>
            <a:xfrm>
              <a:off x="1419120" y="1862280"/>
              <a:ext cx="13716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77600" y="1981080"/>
              <a:ext cx="79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aran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51040" y="1862280"/>
              <a:ext cx="13734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48480" y="1963800"/>
              <a:ext cx="46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Ro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03560" y="1879560"/>
              <a:ext cx="13734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67800" y="1979640"/>
              <a:ext cx="69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Blan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37280" y="1879560"/>
              <a:ext cx="137304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13920" y="1979640"/>
              <a:ext cx="46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Ro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72760" y="1706400"/>
              <a:ext cx="64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Rojo 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99760" y="1979640"/>
              <a:ext cx="69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Blan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8240" y="4813200"/>
              <a:ext cx="137160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36880" y="4913280"/>
              <a:ext cx="64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Rojo 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30760" y="5187960"/>
              <a:ext cx="69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Blan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84320" y="4807080"/>
              <a:ext cx="13716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40080" y="490860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z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36840" y="4807080"/>
              <a:ext cx="13734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82000" y="490860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marill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52920" y="4802040"/>
              <a:ext cx="13716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47120" y="4902120"/>
              <a:ext cx="69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Blan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938920" y="4813200"/>
              <a:ext cx="137304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96600" y="491328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marill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20280" y="5181480"/>
              <a:ext cx="875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y Blan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55000" y="4807080"/>
              <a:ext cx="137304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455240" y="4908600"/>
              <a:ext cx="875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Blanco 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50640" y="5181480"/>
              <a:ext cx="621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eg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99"/>
                </a:solidFill>
                <a:latin typeface="Arial"/>
              </a:rPr>
              <a:t>Identificación de Materiales Peligrosos en Tránsito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1680" y="5273640"/>
            <a:ext cx="107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Times New Roman"/>
              </a:rPr>
              <a:t>Clase quím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88880" y="2057400"/>
            <a:ext cx="8120160" cy="3936960"/>
            <a:chOff x="488880" y="2057400"/>
            <a:chExt cx="8120160" cy="3936960"/>
          </a:xfrm>
        </p:grpSpPr>
        <p:grpSp>
          <p:nvGrpSpPr>
            <p:cNvPr id="143" name=""/>
            <p:cNvGrpSpPr/>
            <p:nvPr/>
          </p:nvGrpSpPr>
          <p:grpSpPr>
            <a:xfrm>
              <a:off x="4613400" y="2095560"/>
              <a:ext cx="3757320" cy="3886200"/>
              <a:chOff x="4613400" y="2095560"/>
              <a:chExt cx="3757320" cy="3886200"/>
            </a:xfrm>
          </p:grpSpPr>
          <p:sp>
            <p:nvSpPr>
              <p:cNvPr id="144" name=""/>
              <p:cNvSpPr/>
              <p:nvPr/>
            </p:nvSpPr>
            <p:spPr>
              <a:xfrm>
                <a:off x="4613400" y="2095560"/>
                <a:ext cx="3757320" cy="3886200"/>
              </a:xfrm>
              <a:prstGeom prst="diamond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718160" y="2181240"/>
                <a:ext cx="3533760" cy="3724200"/>
              </a:xfrm>
              <a:prstGeom prst="diamond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813280" y="3695760"/>
                <a:ext cx="1447920" cy="6094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42000" y="3624120"/>
                <a:ext cx="1600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000000"/>
                    </a:solidFill>
                    <a:latin typeface="Arial"/>
                  </a:rPr>
                  <a:t>1203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27600" y="5162400"/>
                <a:ext cx="1600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6213600" y="2552760"/>
                <a:ext cx="666360" cy="868320"/>
                <a:chOff x="6213600" y="2552760"/>
                <a:chExt cx="666360" cy="86832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6292440" y="2552760"/>
                  <a:ext cx="484560" cy="868320"/>
                </a:xfrm>
                <a:custGeom>
                  <a:avLst/>
                  <a:gdLst/>
                  <a:ahLst/>
                  <a:rect l="l" t="t" r="r" b="b"/>
                  <a:pathLst>
                    <a:path w="1269" h="2269">
                      <a:moveTo>
                        <a:pt x="842" y="412"/>
                      </a:moveTo>
                      <a:lnTo>
                        <a:pt x="952" y="546"/>
                      </a:lnTo>
                      <a:lnTo>
                        <a:pt x="1048" y="690"/>
                      </a:lnTo>
                      <a:lnTo>
                        <a:pt x="1128" y="845"/>
                      </a:lnTo>
                      <a:lnTo>
                        <a:pt x="1190" y="1007"/>
                      </a:lnTo>
                      <a:lnTo>
                        <a:pt x="1235" y="1175"/>
                      </a:lnTo>
                      <a:lnTo>
                        <a:pt x="1262" y="1344"/>
                      </a:lnTo>
                      <a:lnTo>
                        <a:pt x="1269" y="1516"/>
                      </a:lnTo>
                      <a:lnTo>
                        <a:pt x="1253" y="1684"/>
                      </a:lnTo>
                      <a:lnTo>
                        <a:pt x="1218" y="1850"/>
                      </a:lnTo>
                      <a:lnTo>
                        <a:pt x="1158" y="2008"/>
                      </a:lnTo>
                      <a:lnTo>
                        <a:pt x="1136" y="2037"/>
                      </a:lnTo>
                      <a:lnTo>
                        <a:pt x="1115" y="2071"/>
                      </a:lnTo>
                      <a:lnTo>
                        <a:pt x="1096" y="2108"/>
                      </a:lnTo>
                      <a:lnTo>
                        <a:pt x="1077" y="2146"/>
                      </a:lnTo>
                      <a:lnTo>
                        <a:pt x="1056" y="2181"/>
                      </a:lnTo>
                      <a:lnTo>
                        <a:pt x="1032" y="2213"/>
                      </a:lnTo>
                      <a:lnTo>
                        <a:pt x="1005" y="2240"/>
                      </a:lnTo>
                      <a:lnTo>
                        <a:pt x="971" y="2260"/>
                      </a:lnTo>
                      <a:lnTo>
                        <a:pt x="933" y="2269"/>
                      </a:lnTo>
                      <a:lnTo>
                        <a:pt x="886" y="2266"/>
                      </a:lnTo>
                      <a:lnTo>
                        <a:pt x="917" y="2132"/>
                      </a:lnTo>
                      <a:lnTo>
                        <a:pt x="934" y="1996"/>
                      </a:lnTo>
                      <a:lnTo>
                        <a:pt x="939" y="1861"/>
                      </a:lnTo>
                      <a:lnTo>
                        <a:pt x="931" y="1728"/>
                      </a:lnTo>
                      <a:lnTo>
                        <a:pt x="910" y="1599"/>
                      </a:lnTo>
                      <a:lnTo>
                        <a:pt x="878" y="1471"/>
                      </a:lnTo>
                      <a:lnTo>
                        <a:pt x="837" y="1346"/>
                      </a:lnTo>
                      <a:lnTo>
                        <a:pt x="784" y="1226"/>
                      </a:lnTo>
                      <a:lnTo>
                        <a:pt x="722" y="1111"/>
                      </a:lnTo>
                      <a:lnTo>
                        <a:pt x="651" y="1002"/>
                      </a:lnTo>
                      <a:lnTo>
                        <a:pt x="629" y="1012"/>
                      </a:lnTo>
                      <a:lnTo>
                        <a:pt x="555" y="1117"/>
                      </a:lnTo>
                      <a:lnTo>
                        <a:pt x="488" y="1231"/>
                      </a:lnTo>
                      <a:lnTo>
                        <a:pt x="432" y="1351"/>
                      </a:lnTo>
                      <a:lnTo>
                        <a:pt x="384" y="1476"/>
                      </a:lnTo>
                      <a:lnTo>
                        <a:pt x="350" y="1605"/>
                      </a:lnTo>
                      <a:lnTo>
                        <a:pt x="330" y="1738"/>
                      </a:lnTo>
                      <a:lnTo>
                        <a:pt x="323" y="1871"/>
                      </a:lnTo>
                      <a:lnTo>
                        <a:pt x="333" y="2002"/>
                      </a:lnTo>
                      <a:lnTo>
                        <a:pt x="362" y="2133"/>
                      </a:lnTo>
                      <a:lnTo>
                        <a:pt x="410" y="2260"/>
                      </a:lnTo>
                      <a:lnTo>
                        <a:pt x="211" y="2256"/>
                      </a:lnTo>
                      <a:lnTo>
                        <a:pt x="134" y="2138"/>
                      </a:lnTo>
                      <a:lnTo>
                        <a:pt x="77" y="2008"/>
                      </a:lnTo>
                      <a:lnTo>
                        <a:pt x="35" y="1872"/>
                      </a:lnTo>
                      <a:lnTo>
                        <a:pt x="10" y="1730"/>
                      </a:lnTo>
                      <a:lnTo>
                        <a:pt x="0" y="1586"/>
                      </a:lnTo>
                      <a:lnTo>
                        <a:pt x="5" y="1439"/>
                      </a:lnTo>
                      <a:lnTo>
                        <a:pt x="22" y="1295"/>
                      </a:lnTo>
                      <a:lnTo>
                        <a:pt x="54" y="1152"/>
                      </a:lnTo>
                      <a:lnTo>
                        <a:pt x="98" y="1018"/>
                      </a:lnTo>
                      <a:lnTo>
                        <a:pt x="154" y="890"/>
                      </a:lnTo>
                      <a:lnTo>
                        <a:pt x="211" y="813"/>
                      </a:lnTo>
                      <a:lnTo>
                        <a:pt x="266" y="735"/>
                      </a:lnTo>
                      <a:lnTo>
                        <a:pt x="317" y="652"/>
                      </a:lnTo>
                      <a:lnTo>
                        <a:pt x="362" y="565"/>
                      </a:lnTo>
                      <a:lnTo>
                        <a:pt x="398" y="476"/>
                      </a:lnTo>
                      <a:lnTo>
                        <a:pt x="426" y="384"/>
                      </a:lnTo>
                      <a:lnTo>
                        <a:pt x="440" y="290"/>
                      </a:lnTo>
                      <a:lnTo>
                        <a:pt x="438" y="196"/>
                      </a:lnTo>
                      <a:lnTo>
                        <a:pt x="422" y="98"/>
                      </a:lnTo>
                      <a:lnTo>
                        <a:pt x="387" y="0"/>
                      </a:lnTo>
                      <a:lnTo>
                        <a:pt x="443" y="24"/>
                      </a:lnTo>
                      <a:lnTo>
                        <a:pt x="496" y="56"/>
                      </a:lnTo>
                      <a:lnTo>
                        <a:pt x="544" y="93"/>
                      </a:lnTo>
                      <a:lnTo>
                        <a:pt x="589" y="135"/>
                      </a:lnTo>
                      <a:lnTo>
                        <a:pt x="632" y="180"/>
                      </a:lnTo>
                      <a:lnTo>
                        <a:pt x="674" y="226"/>
                      </a:lnTo>
                      <a:lnTo>
                        <a:pt x="715" y="274"/>
                      </a:lnTo>
                      <a:lnTo>
                        <a:pt x="757" y="322"/>
                      </a:lnTo>
                      <a:lnTo>
                        <a:pt x="798" y="368"/>
                      </a:lnTo>
                      <a:lnTo>
                        <a:pt x="842" y="413"/>
                      </a:lnTo>
                      <a:lnTo>
                        <a:pt x="842" y="413"/>
                      </a:lnTo>
                      <a:lnTo>
                        <a:pt x="842" y="4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636240" y="2640600"/>
                  <a:ext cx="243720" cy="660240"/>
                </a:xfrm>
                <a:custGeom>
                  <a:avLst/>
                  <a:gdLst/>
                  <a:ahLst/>
                  <a:rect l="l" t="t" r="r" b="b"/>
                  <a:pathLst>
                    <a:path w="639" h="1725">
                      <a:moveTo>
                        <a:pt x="627" y="1291"/>
                      </a:moveTo>
                      <a:lnTo>
                        <a:pt x="618" y="1339"/>
                      </a:lnTo>
                      <a:lnTo>
                        <a:pt x="605" y="1385"/>
                      </a:lnTo>
                      <a:lnTo>
                        <a:pt x="592" y="1430"/>
                      </a:lnTo>
                      <a:lnTo>
                        <a:pt x="578" y="1475"/>
                      </a:lnTo>
                      <a:lnTo>
                        <a:pt x="560" y="1520"/>
                      </a:lnTo>
                      <a:lnTo>
                        <a:pt x="543" y="1563"/>
                      </a:lnTo>
                      <a:lnTo>
                        <a:pt x="522" y="1605"/>
                      </a:lnTo>
                      <a:lnTo>
                        <a:pt x="499" y="1646"/>
                      </a:lnTo>
                      <a:lnTo>
                        <a:pt x="474" y="1686"/>
                      </a:lnTo>
                      <a:lnTo>
                        <a:pt x="447" y="1725"/>
                      </a:lnTo>
                      <a:lnTo>
                        <a:pt x="507" y="1544"/>
                      </a:lnTo>
                      <a:lnTo>
                        <a:pt x="539" y="1360"/>
                      </a:lnTo>
                      <a:lnTo>
                        <a:pt x="544" y="1176"/>
                      </a:lnTo>
                      <a:lnTo>
                        <a:pt x="523" y="992"/>
                      </a:lnTo>
                      <a:lnTo>
                        <a:pt x="479" y="809"/>
                      </a:lnTo>
                      <a:lnTo>
                        <a:pt x="415" y="633"/>
                      </a:lnTo>
                      <a:lnTo>
                        <a:pt x="333" y="462"/>
                      </a:lnTo>
                      <a:lnTo>
                        <a:pt x="234" y="297"/>
                      </a:lnTo>
                      <a:lnTo>
                        <a:pt x="122" y="144"/>
                      </a:lnTo>
                      <a:lnTo>
                        <a:pt x="0" y="0"/>
                      </a:lnTo>
                      <a:lnTo>
                        <a:pt x="125" y="96"/>
                      </a:lnTo>
                      <a:lnTo>
                        <a:pt x="240" y="198"/>
                      </a:lnTo>
                      <a:lnTo>
                        <a:pt x="341" y="312"/>
                      </a:lnTo>
                      <a:lnTo>
                        <a:pt x="429" y="432"/>
                      </a:lnTo>
                      <a:lnTo>
                        <a:pt x="504" y="558"/>
                      </a:lnTo>
                      <a:lnTo>
                        <a:pt x="562" y="694"/>
                      </a:lnTo>
                      <a:lnTo>
                        <a:pt x="605" y="835"/>
                      </a:lnTo>
                      <a:lnTo>
                        <a:pt x="631" y="982"/>
                      </a:lnTo>
                      <a:lnTo>
                        <a:pt x="639" y="1134"/>
                      </a:lnTo>
                      <a:lnTo>
                        <a:pt x="627" y="1293"/>
                      </a:lnTo>
                      <a:lnTo>
                        <a:pt x="627" y="1293"/>
                      </a:lnTo>
                      <a:lnTo>
                        <a:pt x="627" y="12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213600" y="2735640"/>
                  <a:ext cx="118440" cy="505080"/>
                </a:xfrm>
                <a:custGeom>
                  <a:avLst/>
                  <a:gdLst/>
                  <a:ahLst/>
                  <a:rect l="l" t="t" r="r" b="b"/>
                  <a:pathLst>
                    <a:path w="310" h="1320">
                      <a:moveTo>
                        <a:pt x="57" y="1104"/>
                      </a:moveTo>
                      <a:lnTo>
                        <a:pt x="59" y="1128"/>
                      </a:lnTo>
                      <a:lnTo>
                        <a:pt x="60" y="1149"/>
                      </a:lnTo>
                      <a:lnTo>
                        <a:pt x="62" y="1171"/>
                      </a:lnTo>
                      <a:lnTo>
                        <a:pt x="67" y="1193"/>
                      </a:lnTo>
                      <a:lnTo>
                        <a:pt x="70" y="1214"/>
                      </a:lnTo>
                      <a:lnTo>
                        <a:pt x="75" y="1235"/>
                      </a:lnTo>
                      <a:lnTo>
                        <a:pt x="80" y="1256"/>
                      </a:lnTo>
                      <a:lnTo>
                        <a:pt x="84" y="1277"/>
                      </a:lnTo>
                      <a:lnTo>
                        <a:pt x="89" y="1297"/>
                      </a:lnTo>
                      <a:lnTo>
                        <a:pt x="94" y="1320"/>
                      </a:lnTo>
                      <a:lnTo>
                        <a:pt x="44" y="1208"/>
                      </a:lnTo>
                      <a:lnTo>
                        <a:pt x="12" y="1091"/>
                      </a:lnTo>
                      <a:lnTo>
                        <a:pt x="0" y="968"/>
                      </a:lnTo>
                      <a:lnTo>
                        <a:pt x="1" y="840"/>
                      </a:lnTo>
                      <a:lnTo>
                        <a:pt x="19" y="712"/>
                      </a:lnTo>
                      <a:lnTo>
                        <a:pt x="49" y="585"/>
                      </a:lnTo>
                      <a:lnTo>
                        <a:pt x="92" y="461"/>
                      </a:lnTo>
                      <a:lnTo>
                        <a:pt x="145" y="342"/>
                      </a:lnTo>
                      <a:lnTo>
                        <a:pt x="208" y="229"/>
                      </a:lnTo>
                      <a:lnTo>
                        <a:pt x="276" y="125"/>
                      </a:lnTo>
                      <a:lnTo>
                        <a:pt x="310" y="0"/>
                      </a:lnTo>
                      <a:lnTo>
                        <a:pt x="299" y="113"/>
                      </a:lnTo>
                      <a:lnTo>
                        <a:pt x="272" y="221"/>
                      </a:lnTo>
                      <a:lnTo>
                        <a:pt x="235" y="326"/>
                      </a:lnTo>
                      <a:lnTo>
                        <a:pt x="190" y="430"/>
                      </a:lnTo>
                      <a:lnTo>
                        <a:pt x="145" y="534"/>
                      </a:lnTo>
                      <a:lnTo>
                        <a:pt x="104" y="640"/>
                      </a:lnTo>
                      <a:lnTo>
                        <a:pt x="68" y="747"/>
                      </a:lnTo>
                      <a:lnTo>
                        <a:pt x="48" y="861"/>
                      </a:lnTo>
                      <a:lnTo>
                        <a:pt x="41" y="979"/>
                      </a:lnTo>
                      <a:lnTo>
                        <a:pt x="59" y="1104"/>
                      </a:lnTo>
                      <a:lnTo>
                        <a:pt x="59" y="1104"/>
                      </a:lnTo>
                      <a:lnTo>
                        <a:pt x="57" y="1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455880" y="3000960"/>
                  <a:ext cx="156600" cy="416880"/>
                </a:xfrm>
                <a:custGeom>
                  <a:avLst/>
                  <a:gdLst/>
                  <a:ahLst/>
                  <a:rect l="l" t="t" r="r" b="b"/>
                  <a:pathLst>
                    <a:path w="411" h="1089">
                      <a:moveTo>
                        <a:pt x="360" y="1083"/>
                      </a:moveTo>
                      <a:lnTo>
                        <a:pt x="107" y="1089"/>
                      </a:lnTo>
                      <a:lnTo>
                        <a:pt x="61" y="988"/>
                      </a:lnTo>
                      <a:lnTo>
                        <a:pt x="27" y="881"/>
                      </a:lnTo>
                      <a:lnTo>
                        <a:pt x="8" y="769"/>
                      </a:lnTo>
                      <a:lnTo>
                        <a:pt x="0" y="654"/>
                      </a:lnTo>
                      <a:lnTo>
                        <a:pt x="3" y="537"/>
                      </a:lnTo>
                      <a:lnTo>
                        <a:pt x="18" y="422"/>
                      </a:lnTo>
                      <a:lnTo>
                        <a:pt x="42" y="308"/>
                      </a:lnTo>
                      <a:lnTo>
                        <a:pt x="75" y="198"/>
                      </a:lnTo>
                      <a:lnTo>
                        <a:pt x="117" y="96"/>
                      </a:lnTo>
                      <a:lnTo>
                        <a:pt x="167" y="0"/>
                      </a:lnTo>
                      <a:lnTo>
                        <a:pt x="227" y="96"/>
                      </a:lnTo>
                      <a:lnTo>
                        <a:pt x="280" y="196"/>
                      </a:lnTo>
                      <a:lnTo>
                        <a:pt x="325" y="300"/>
                      </a:lnTo>
                      <a:lnTo>
                        <a:pt x="362" y="408"/>
                      </a:lnTo>
                      <a:lnTo>
                        <a:pt x="389" y="518"/>
                      </a:lnTo>
                      <a:lnTo>
                        <a:pt x="405" y="630"/>
                      </a:lnTo>
                      <a:lnTo>
                        <a:pt x="411" y="742"/>
                      </a:lnTo>
                      <a:lnTo>
                        <a:pt x="407" y="857"/>
                      </a:lnTo>
                      <a:lnTo>
                        <a:pt x="391" y="971"/>
                      </a:lnTo>
                      <a:lnTo>
                        <a:pt x="360" y="1083"/>
                      </a:lnTo>
                      <a:lnTo>
                        <a:pt x="360" y="1083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6199200" y="344808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533520" y="2057400"/>
              <a:ext cx="3914640" cy="39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4108320" y="3174840"/>
              <a:ext cx="138240" cy="130320"/>
            </a:xfrm>
            <a:custGeom>
              <a:avLst/>
              <a:gdLst/>
              <a:ahLst/>
              <a:rect l="l" t="t" r="r" b="b"/>
              <a:pathLst>
                <a:path w="87" h="82">
                  <a:moveTo>
                    <a:pt x="0" y="0"/>
                  </a:moveTo>
                  <a:lnTo>
                    <a:pt x="19" y="0"/>
                  </a:lnTo>
                  <a:lnTo>
                    <a:pt x="70" y="63"/>
                  </a:lnTo>
                  <a:lnTo>
                    <a:pt x="70" y="15"/>
                  </a:lnTo>
                  <a:lnTo>
                    <a:pt x="70" y="13"/>
                  </a:lnTo>
                  <a:lnTo>
                    <a:pt x="70" y="13"/>
                  </a:lnTo>
                  <a:lnTo>
                    <a:pt x="70" y="12"/>
                  </a:lnTo>
                  <a:lnTo>
                    <a:pt x="70" y="11"/>
                  </a:lnTo>
                  <a:lnTo>
                    <a:pt x="70" y="10"/>
                  </a:lnTo>
                  <a:lnTo>
                    <a:pt x="69" y="10"/>
                  </a:lnTo>
                  <a:lnTo>
                    <a:pt x="69" y="8"/>
                  </a:lnTo>
                  <a:lnTo>
                    <a:pt x="69" y="7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66" y="4"/>
                  </a:lnTo>
                  <a:lnTo>
                    <a:pt x="65" y="3"/>
                  </a:lnTo>
                  <a:lnTo>
                    <a:pt x="63" y="3"/>
                  </a:lnTo>
                  <a:lnTo>
                    <a:pt x="62" y="3"/>
                  </a:lnTo>
                  <a:lnTo>
                    <a:pt x="62" y="3"/>
                  </a:lnTo>
                  <a:lnTo>
                    <a:pt x="58" y="3"/>
                  </a:lnTo>
                  <a:lnTo>
                    <a:pt x="58" y="0"/>
                  </a:lnTo>
                  <a:lnTo>
                    <a:pt x="87" y="0"/>
                  </a:lnTo>
                  <a:lnTo>
                    <a:pt x="87" y="3"/>
                  </a:lnTo>
                  <a:lnTo>
                    <a:pt x="84" y="3"/>
                  </a:lnTo>
                  <a:lnTo>
                    <a:pt x="83" y="3"/>
                  </a:lnTo>
                  <a:lnTo>
                    <a:pt x="82" y="3"/>
                  </a:lnTo>
                  <a:lnTo>
                    <a:pt x="80" y="3"/>
                  </a:lnTo>
                  <a:lnTo>
                    <a:pt x="80" y="3"/>
                  </a:lnTo>
                  <a:lnTo>
                    <a:pt x="80" y="4"/>
                  </a:lnTo>
                  <a:lnTo>
                    <a:pt x="79" y="4"/>
                  </a:lnTo>
                  <a:lnTo>
                    <a:pt x="78" y="4"/>
                  </a:lnTo>
                  <a:lnTo>
                    <a:pt x="76" y="4"/>
                  </a:lnTo>
                  <a:lnTo>
                    <a:pt x="76" y="6"/>
                  </a:lnTo>
                  <a:lnTo>
                    <a:pt x="76" y="7"/>
                  </a:lnTo>
                  <a:lnTo>
                    <a:pt x="75" y="7"/>
                  </a:lnTo>
                  <a:lnTo>
                    <a:pt x="75" y="8"/>
                  </a:lnTo>
                  <a:lnTo>
                    <a:pt x="75" y="10"/>
                  </a:lnTo>
                  <a:lnTo>
                    <a:pt x="75" y="11"/>
                  </a:lnTo>
                  <a:lnTo>
                    <a:pt x="75" y="11"/>
                  </a:lnTo>
                  <a:lnTo>
                    <a:pt x="75" y="12"/>
                  </a:lnTo>
                  <a:lnTo>
                    <a:pt x="75" y="13"/>
                  </a:lnTo>
                  <a:lnTo>
                    <a:pt x="75" y="13"/>
                  </a:lnTo>
                  <a:lnTo>
                    <a:pt x="75" y="15"/>
                  </a:lnTo>
                  <a:lnTo>
                    <a:pt x="75" y="82"/>
                  </a:lnTo>
                  <a:lnTo>
                    <a:pt x="74" y="82"/>
                  </a:lnTo>
                  <a:lnTo>
                    <a:pt x="19" y="17"/>
                  </a:lnTo>
                  <a:lnTo>
                    <a:pt x="19" y="68"/>
                  </a:lnTo>
                  <a:lnTo>
                    <a:pt x="19" y="71"/>
                  </a:lnTo>
                  <a:lnTo>
                    <a:pt x="19" y="72"/>
                  </a:lnTo>
                  <a:lnTo>
                    <a:pt x="19" y="73"/>
                  </a:lnTo>
                  <a:lnTo>
                    <a:pt x="19" y="73"/>
                  </a:lnTo>
                  <a:lnTo>
                    <a:pt x="20" y="75"/>
                  </a:lnTo>
                  <a:lnTo>
                    <a:pt x="20" y="76"/>
                  </a:lnTo>
                  <a:lnTo>
                    <a:pt x="20" y="77"/>
                  </a:lnTo>
                  <a:lnTo>
                    <a:pt x="20" y="77"/>
                  </a:lnTo>
                  <a:lnTo>
                    <a:pt x="22" y="77"/>
                  </a:lnTo>
                  <a:lnTo>
                    <a:pt x="22" y="78"/>
                  </a:lnTo>
                  <a:lnTo>
                    <a:pt x="22" y="80"/>
                  </a:lnTo>
                  <a:lnTo>
                    <a:pt x="23" y="80"/>
                  </a:lnTo>
                  <a:lnTo>
                    <a:pt x="24" y="80"/>
                  </a:lnTo>
                  <a:lnTo>
                    <a:pt x="26" y="80"/>
                  </a:lnTo>
                  <a:lnTo>
                    <a:pt x="26" y="81"/>
                  </a:lnTo>
                  <a:lnTo>
                    <a:pt x="26" y="81"/>
                  </a:lnTo>
                  <a:lnTo>
                    <a:pt x="27" y="81"/>
                  </a:lnTo>
                  <a:lnTo>
                    <a:pt x="28" y="81"/>
                  </a:lnTo>
                  <a:lnTo>
                    <a:pt x="28" y="81"/>
                  </a:lnTo>
                  <a:lnTo>
                    <a:pt x="31" y="81"/>
                  </a:lnTo>
                  <a:lnTo>
                    <a:pt x="31" y="82"/>
                  </a:lnTo>
                  <a:lnTo>
                    <a:pt x="4" y="82"/>
                  </a:lnTo>
                  <a:lnTo>
                    <a:pt x="4" y="81"/>
                  </a:lnTo>
                  <a:lnTo>
                    <a:pt x="6" y="81"/>
                  </a:lnTo>
                  <a:lnTo>
                    <a:pt x="7" y="81"/>
                  </a:lnTo>
                  <a:lnTo>
                    <a:pt x="7" y="81"/>
                  </a:lnTo>
                  <a:lnTo>
                    <a:pt x="9" y="80"/>
                  </a:lnTo>
                  <a:lnTo>
                    <a:pt x="10" y="80"/>
                  </a:lnTo>
                  <a:lnTo>
                    <a:pt x="10" y="80"/>
                  </a:lnTo>
                  <a:lnTo>
                    <a:pt x="10" y="80"/>
                  </a:lnTo>
                  <a:lnTo>
                    <a:pt x="11" y="80"/>
                  </a:lnTo>
                  <a:lnTo>
                    <a:pt x="13" y="80"/>
                  </a:lnTo>
                  <a:lnTo>
                    <a:pt x="13" y="78"/>
                  </a:lnTo>
                  <a:lnTo>
                    <a:pt x="13" y="77"/>
                  </a:lnTo>
                  <a:lnTo>
                    <a:pt x="13" y="77"/>
                  </a:lnTo>
                  <a:lnTo>
                    <a:pt x="14" y="77"/>
                  </a:lnTo>
                  <a:lnTo>
                    <a:pt x="14" y="76"/>
                  </a:lnTo>
                  <a:lnTo>
                    <a:pt x="14" y="75"/>
                  </a:lnTo>
                  <a:lnTo>
                    <a:pt x="14" y="73"/>
                  </a:lnTo>
                  <a:lnTo>
                    <a:pt x="14" y="72"/>
                  </a:lnTo>
                  <a:lnTo>
                    <a:pt x="14" y="71"/>
                  </a:lnTo>
                  <a:lnTo>
                    <a:pt x="14" y="69"/>
                  </a:lnTo>
                  <a:lnTo>
                    <a:pt x="15" y="68"/>
                  </a:lnTo>
                  <a:lnTo>
                    <a:pt x="15" y="12"/>
                  </a:lnTo>
                  <a:lnTo>
                    <a:pt x="14" y="11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03520" y="2232000"/>
              <a:ext cx="730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57560" y="3062160"/>
              <a:ext cx="5842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56840" y="3071880"/>
              <a:ext cx="62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imes New Roman"/>
                </a:rPr>
                <a:t>Nomb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47960" y="4307040"/>
              <a:ext cx="5749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41760" y="4527720"/>
              <a:ext cx="8064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8880" y="4665600"/>
              <a:ext cx="11937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81080" y="5334120"/>
              <a:ext cx="128880" cy="1299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0" y="82"/>
                  </a:moveTo>
                  <a:lnTo>
                    <a:pt x="81" y="40"/>
                  </a:lnTo>
                  <a:lnTo>
                    <a:pt x="0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561840" y="3254400"/>
              <a:ext cx="49212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59240" y="3524400"/>
              <a:ext cx="142920" cy="12528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45" y="0"/>
                  </a:moveTo>
                  <a:lnTo>
                    <a:pt x="0" y="79"/>
                  </a:lnTo>
                  <a:lnTo>
                    <a:pt x="90" y="6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54560" y="2201760"/>
              <a:ext cx="5875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26440" y="221148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imes New Roman"/>
                </a:rPr>
                <a:t>Símbo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09960" y="2720880"/>
              <a:ext cx="827280" cy="4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74400" y="2438280"/>
              <a:ext cx="7048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imes New Roman"/>
                </a:rPr>
                <a:t>Númer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imes New Roman"/>
                </a:rPr>
                <a:t>químico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86400" y="2819520"/>
              <a:ext cx="614520" cy="81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41880" y="3594240"/>
              <a:ext cx="130320" cy="139680"/>
            </a:xfrm>
            <a:custGeom>
              <a:avLst/>
              <a:gdLst/>
              <a:ahLst/>
              <a:rect l="l" t="t" r="r" b="b"/>
              <a:pathLst>
                <a:path w="82" h="88">
                  <a:moveTo>
                    <a:pt x="0" y="48"/>
                  </a:moveTo>
                  <a:lnTo>
                    <a:pt x="82" y="88"/>
                  </a:lnTo>
                  <a:lnTo>
                    <a:pt x="67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24560" y="4665600"/>
              <a:ext cx="11937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387680" y="5257800"/>
              <a:ext cx="1078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imes New Roman"/>
                </a:rPr>
                <a:t>Clase quím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30760" y="5408640"/>
              <a:ext cx="569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95960" y="5334120"/>
              <a:ext cx="127080" cy="129960"/>
            </a:xfrm>
            <a:custGeom>
              <a:avLst/>
              <a:gdLst/>
              <a:ahLst/>
              <a:rect l="l" t="t" r="r" b="b"/>
              <a:pathLst>
                <a:path w="80" h="82">
                  <a:moveTo>
                    <a:pt x="0" y="82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08840" y="4405320"/>
              <a:ext cx="5731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00840" y="4626000"/>
              <a:ext cx="80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02080" y="222552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imes New Roman"/>
                </a:rPr>
                <a:t>Símbo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953040" y="2438280"/>
              <a:ext cx="742680" cy="37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157400">
              <a:off x="6865560" y="2758680"/>
              <a:ext cx="13644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28" y="0"/>
                  </a:moveTo>
                  <a:lnTo>
                    <a:pt x="0" y="86"/>
                  </a:lnTo>
                  <a:lnTo>
                    <a:pt x="86" y="5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523880" y="5410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2982960" y="2438280"/>
              <a:ext cx="743040" cy="37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157400">
              <a:off x="2895120" y="2759040"/>
              <a:ext cx="13680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28" y="0"/>
                  </a:moveTo>
                  <a:lnTo>
                    <a:pt x="0" y="86"/>
                  </a:lnTo>
                  <a:lnTo>
                    <a:pt x="86" y="5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Objetivos de la unida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xplicar el rol de los CERTs en la seguridad contra incendio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dentificar y reducir riesgos potenciales de incendios en el hogar y en el lugar de trabajo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alizar una valoración básica para una emergencia de incendio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ntender las precauciones básicas de seguridad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dentificar materiales peligrosos en el hogar y en la comunidad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xtinguir incendios pequeños utilizando un extintor de incendio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El Triángulo del Fuego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alo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mbustib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Oxígen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209680" y="1981080"/>
            <a:ext cx="5105520" cy="4025880"/>
            <a:chOff x="2209680" y="1981080"/>
            <a:chExt cx="5105520" cy="4025880"/>
          </a:xfrm>
        </p:grpSpPr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3124080" y="1981080"/>
              <a:ext cx="393696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2209680" y="3352680"/>
              <a:ext cx="1524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ombusti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172200" y="3352680"/>
              <a:ext cx="1143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xíge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419720" y="4343400"/>
              <a:ext cx="12189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a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Quím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38480" y="5638680"/>
              <a:ext cx="1828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a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Química del Fuego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lases de fuegos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A:  Combustibles comun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B:  Líquidos inflamables y combustib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:  Equipo eléctrico energizad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:  Metales combustib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638680" y="4114800"/>
            <a:ext cx="2743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-8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99"/>
                </a:solidFill>
                <a:latin typeface="Arial"/>
              </a:rPr>
              <a:t>Reducción de Peligros de Incendio en</a:t>
            </a:r>
            <a:br>
              <a:rPr sz="2500"/>
            </a:br>
            <a:r>
              <a:rPr b="0" lang="es-ES_tradnl" sz="2500" spc="-1" strike="noStrike">
                <a:solidFill>
                  <a:srgbClr val="000099"/>
                </a:solidFill>
                <a:latin typeface="Arial"/>
              </a:rPr>
              <a:t>el Hogar y el Lugar de Trabajo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vite los “pulpos eléctricos.”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No coloque cables por debajo de las alfombra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emplace los cables rotos o desgastado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antenga los aparatos eléctricos en buen estado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0" y="3568680"/>
            <a:ext cx="37846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-8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99"/>
                </a:solidFill>
                <a:latin typeface="Arial"/>
              </a:rPr>
              <a:t>Reducción de Peligros de Incendio en</a:t>
            </a:r>
            <a:br>
              <a:rPr sz="2500"/>
            </a:br>
            <a:r>
              <a:rPr b="0" lang="es-ES_tradnl" sz="2500" spc="-1" strike="noStrike">
                <a:solidFill>
                  <a:srgbClr val="000099"/>
                </a:solidFill>
                <a:latin typeface="Arial"/>
              </a:rPr>
              <a:t>el Hogar y el Lugar de Trabajo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stale un detector de gas natural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ocalice y marque las válvulas de cierre del ga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400800" y="3505320"/>
            <a:ext cx="19558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99"/>
                </a:solidFill>
                <a:latin typeface="Arial"/>
              </a:rPr>
              <a:t>Reducción de Peligros de Incendio en</a:t>
            </a:r>
            <a:br>
              <a:rPr sz="2500"/>
            </a:br>
            <a:r>
              <a:rPr b="0" lang="es-ES_tradnl" sz="2500" spc="-1" strike="noStrike">
                <a:solidFill>
                  <a:srgbClr val="000099"/>
                </a:solidFill>
                <a:latin typeface="Arial"/>
              </a:rPr>
              <a:t>el Hogar y el Lugar de Trabajo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ea las etiqueta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Utilice los procedimientos de almacenamiento L.A.E.S. (limite, aísle, elimine, separe)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0" y="3492360"/>
            <a:ext cx="37846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Valoración del CER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sponda a estas preguntas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¿Mi compañero y yo podemos extinguir el incendio de manera segura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¿Contamos con el equipo adecuado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¿Existen otros peligros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¿El edificio está estructuralmente dañado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¿Podemos escapar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486400" y="4114800"/>
            <a:ext cx="28195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Valoración del CER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cabe los hecho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termine el daño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nsidere las probabilidade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termine su situación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stablezca las prioridade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ome decisione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sarrolle planes de acción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ome acción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valúe el progreso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486400" y="4114800"/>
            <a:ext cx="28195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7:44:42Z</dcterms:created>
  <dc:creator>Eileen West</dc:creator>
  <dc:description/>
  <dc:language>en-US</dc:language>
  <cp:lastModifiedBy>eileen west</cp:lastModifiedBy>
  <cp:lastPrinted>2001-11-28T13:14:08Z</cp:lastPrinted>
  <dcterms:modified xsi:type="dcterms:W3CDTF">2003-09-30T14:47:18Z</dcterms:modified>
  <cp:revision>277</cp:revision>
  <dc:subject/>
  <dc:title>September 11, 2001 Lessons Learned</dc:title>
</cp:coreProperties>
</file>