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60020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976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976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60020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976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6320" y="63244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isual 3.</a:t>
            </a:r>
            <a:fld id="{EB80020A-9B07-43B7-B43A-8769740C1A36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Objetivos de la Unida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1.  Identificar a los “asesinos.”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2.  Aplicar técnicas para abrir vías respiratorias, controlar hemorragias y tratar choques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99"/>
                </a:solidFill>
                <a:latin typeface="Arial"/>
              </a:rPr>
              <a:t>3.  Realizar triaje bajo condiciones de desastre simuladas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281916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436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99"/>
                </a:solidFill>
                <a:latin typeface="Arial"/>
              </a:rPr>
              <a:t>Tratamiento de Problemas que Ponen en Peligro la Vida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“asesinos”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Obstrucción de vías respiratoria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angrado excesiv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nmoc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190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99"/>
                </a:solidFill>
                <a:latin typeface="Arial"/>
              </a:rPr>
              <a:t>Tratamiento de Problemas que Ponen en Peligro la Vida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ponentes del sistema respiratorio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ulmo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Bronqu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ring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aring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Vías nasa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áque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429000" y="2133720"/>
            <a:ext cx="5181480" cy="3941640"/>
            <a:chOff x="3429000" y="2133720"/>
            <a:chExt cx="5181480" cy="394164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505320" y="2133720"/>
              <a:ext cx="4876560" cy="39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505320" y="2133720"/>
              <a:ext cx="9903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ías nas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3657600"/>
              <a:ext cx="1295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ulm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05720" y="2286000"/>
              <a:ext cx="990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ri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05720" y="2743200"/>
              <a:ext cx="990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ri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29400" y="3200400"/>
              <a:ext cx="990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áqu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15200" y="3581280"/>
              <a:ext cx="1295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ronqu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riaj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nmediato (I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etardado (D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allecido (DEAD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3784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ificultades del Triaj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No tener plan, organización o meta en el equip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iderazgo indecis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emasiado enfoque en una sola lesió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Tratamiento aplicado (además del triaje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7:44:42Z</dcterms:created>
  <dc:creator>Eileen West</dc:creator>
  <dc:description/>
  <dc:language>en-US</dc:language>
  <cp:lastModifiedBy>Cristina Sánchez Galindo</cp:lastModifiedBy>
  <cp:lastPrinted>2001-11-28T13:14:08Z</cp:lastPrinted>
  <dcterms:modified xsi:type="dcterms:W3CDTF">2003-08-06T21:54:47Z</dcterms:modified>
  <cp:revision>258</cp:revision>
  <dc:subject/>
  <dc:title>September 11, 2001 Lessons Learned</dc:title>
</cp:coreProperties>
</file>