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5.</a:t>
            </a:r>
            <a:fld id="{0C7797C7-82B7-49C0-B510-AE687FE83A3B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peraciones de Búsqueda y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alor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búsqueda incluy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calización de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cumentación de la localiz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rescate incluye los procedimientos y los métodos para extraer a las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úsqueda y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moder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35360" y="2057400"/>
            <a:ext cx="347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70120" y="2286000"/>
            <a:ext cx="5603760" cy="3813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úsqueda y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considera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Valoración de Búsqueda y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erramient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quip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4120" y="3645000"/>
            <a:ext cx="2984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onsideraciones de Segur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La seguridad del rescatador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es su principal preocup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un sistema de compañ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anezca alerta de los pelig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equipo de segur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cambie los equip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bajo en equipo = Éxi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peccione el área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zando técnicas de búsqueda basadas en la valor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calizando víctimas potenci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3632040"/>
            <a:ext cx="3073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95280" y="1828800"/>
            <a:ext cx="6508800" cy="3865680"/>
            <a:chOff x="1295280" y="1828800"/>
            <a:chExt cx="6508800" cy="38656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295280" y="1828800"/>
              <a:ext cx="6508800" cy="38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019920" y="373392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87692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920" y="464832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4205160"/>
              <a:ext cx="1067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000640" y="502920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09680" y="1905120"/>
            <a:ext cx="4800600" cy="3754440"/>
            <a:chOff x="2209680" y="1905120"/>
            <a:chExt cx="4800600" cy="375444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09680" y="1905120"/>
              <a:ext cx="480060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029200" y="457200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09680" y="1841400"/>
            <a:ext cx="4953240" cy="3873600"/>
            <a:chOff x="2209680" y="1841400"/>
            <a:chExt cx="4953240" cy="38736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209680" y="1841400"/>
              <a:ext cx="495324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666880" y="4038480"/>
              <a:ext cx="1067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000" y="487692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3300"/>
                  </a:solidFill>
                  <a:latin typeface="Arial"/>
                </a:rPr>
                <a:t>HUE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uecos individu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82920" y="2438280"/>
            <a:ext cx="41767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etodología Efectiva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dica la ubicación del rescatad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a la duplicación de esfuerz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62320" y="3429000"/>
            <a:ext cx="4572000" cy="2527200"/>
            <a:chOff x="2362320" y="3429000"/>
            <a:chExt cx="457200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362320" y="3429000"/>
              <a:ext cx="4572000" cy="25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09880" y="3581280"/>
              <a:ext cx="1600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RA Y FEC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 BUSQUE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4343400"/>
              <a:ext cx="1600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FORM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PORT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4267080"/>
              <a:ext cx="16002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GENCIA QUE REALIZA LA BUSQUE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480" y="5151600"/>
              <a:ext cx="121932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RADO DE BUSQUE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cisión de Intentar el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iesgos para el rescatad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yor bienestar para la mayor cantidad de perso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étodo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lame a las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un patrón sistemático de búsque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éngase frecuentemente para escuch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iangu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rque las áreas buscadas para documentar los result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porte los result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76520" y="1733400"/>
            <a:ext cx="54356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alización de Operaciones de Búsque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unciones principa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reación de un ambiente de rescate segu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evante los objetos que obstruyan su cami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herramientas para levantar los objet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tire los desech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iaje o estabilización de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moción de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reación de un Ambiente Segur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et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la seguridad del rescatad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iaje en edificios ligera y moderadamente dañ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acuar a las víctimas rápidamente de edificios moderadamente dañado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  <a:ea typeface="Arial"/>
              </a:rPr>
              <a:t>- minimizar las les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3708360"/>
            <a:ext cx="2743200" cy="2006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cauciones para Minimizar Riesg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mbiente Segur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ozca sus limit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ga los procedimientos de segur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tire los desech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alancami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ibaj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moción de Víctim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ipos de remoción de víctim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uto-remoción o remoción con ayu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evación y arr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mite que las víctimas se extraigan a sí mismas siempre que sea posibl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05520" y="4206960"/>
            <a:ext cx="26794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étodo de Extrac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pende d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bilidad general o medio ambiente inmedia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ntidad de rescatadores dispon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uerza y habilidad de los rescatado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dición de la víctim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etas de la Búsqueda y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catar a la mayor cantidad de personas en el menor período de tiemp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atar a las víctimas ligeramente atrapadas prime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94360" y="3200400"/>
            <a:ext cx="23115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úsqueda y Rescate Efectiv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aloración efectiv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guridad del rescatad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guridad de las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2438640" cy="1790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los requerimientos de valoración para situaciones potenciales de búsqueda y resc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ir las técnicas más comunes para buscar en una estruct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zar técnicas seguras para la remoción de escombros y la extracción de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ir formas de proteger a los rescatadores durante la búsqueda y el resc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Valoración de Búsqueda y Rescate d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opilar hech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r dañ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r probabilidad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r su situ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blecer prioridad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ar decis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ar planes de ac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ar ac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aluar el progres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aso 1:  Recopilar hech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ar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hora del evento y el día de la sema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tipo de estruct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tipo de construc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clim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pelig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abar los hechos </a:t>
            </a: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con precisión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Paso 2:  Determinar y Comunicar los Daños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misión del CERT cambia cuand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daño es lige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daño es mode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daño es considera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e el tipo y la antigüedad de la estruct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¡Nunca entre a una estructura  con daños considerables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28720" y="2362320"/>
            <a:ext cx="5686560" cy="3911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úsqueda y Resc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lig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3-07-15T15:07:08Z</cp:lastPrinted>
  <dcterms:modified xsi:type="dcterms:W3CDTF">2003-08-06T22:29:04Z</dcterms:modified>
  <cp:revision>289</cp:revision>
  <dc:subject/>
  <dc:title>September 11, 2001 Lessons Learned</dc:title>
</cp:coreProperties>
</file>