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976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160020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160020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976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976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976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430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976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Una Onda de Calor Es . . 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Un período prolongado de calor excesivo, muchas veces combinado con una humedad excesiva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Riesgos Asociados con una Onda de Calo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alambr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gotamiento por calo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nsolació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Acciones a Tomar Durante una Onda de Calo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Busque aire acondicionad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vite realizar actividades extenuantes durante el dí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Utilice ropa ligera de colores clar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uide a sus familiares y vecin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Beba muchos líquid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Preparación del Hoga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nstale aislamiento adiciona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roteja las ventan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Utilice ventiladores en el átic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1T17:44:42Z</dcterms:created>
  <dc:creator>Eileen West</dc:creator>
  <dc:description/>
  <dc:language>en-US</dc:language>
  <cp:lastModifiedBy>Ana Elisa Benavent</cp:lastModifiedBy>
  <cp:lastPrinted>2001-11-28T13:14:08Z</cp:lastPrinted>
  <dcterms:modified xsi:type="dcterms:W3CDTF">2003-07-15T19:51:20Z</dcterms:modified>
  <cp:revision>263</cp:revision>
  <dc:subject/>
  <dc:title>September 11, 2001 Lessons Learned</dc:title>
</cp:coreProperties>
</file>