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a Tormenta Eléctrica Severa Es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a tormenta que produce granizo de por lo menos 3/4 de pulgada de diámetro, tiene vientos de 58 millas por hora o más, o produce un tornad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que Presentan las Tormentas Eléctric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ay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raniz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áfagas y vientos en línea direc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undaciones repenti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rn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504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para una Tormenta Eléctr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ienda el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a a convertirse en un blanco pequeñ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ste atención a las advert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504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a Tormenta Eléctr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fuentes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teléfo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r en exteri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504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i se Encuentra en Exteriores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 las fuentes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usque refugio en un edificio sóli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 ser necesari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fúgiese en un auto, ó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aya a un área baja y conviértase en un blanco pequeñ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los pararrayos natur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Ana Elisa Benavent</cp:lastModifiedBy>
  <cp:lastPrinted>2001-11-28T13:14:08Z</cp:lastPrinted>
  <dcterms:modified xsi:type="dcterms:W3CDTF">2003-07-15T18:53:49Z</dcterms:modified>
  <cp:revision>269</cp:revision>
  <dc:subject/>
  <dc:title>September 11, 2001 Lessons Learned</dc:title>
</cp:coreProperties>
</file>