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Las Plantas de Energía Nuclear . . 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peran en la mayoría de los estados y producen alrededor del 20 por ciento de la energía del país.  Casi 3 millones de estadounidenses viven a menos de 10 millas de una planta de energía nuclear en operació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766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Después de una Emergencia en </a:t>
            </a:r>
            <a:br>
              <a:rPr sz="2600"/>
            </a:b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una Planta de Energía Nuclear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uelva a casa únicamente cuando se lo indiquen las autoridades loc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está en su casa, permanezca en ella hasta que se le indiq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btenga atención médica si es necesar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¿Qué es Radiación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materiales radioactivos están compuestos por átomos inestables.  Los átomos inestables liberan el exceso de energía hasta que se estabilizan.  La energía emitida es la radiació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eligr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principales peligros para las personas cercanas son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posición corporal a la radiación por la nube y las partículas depositadas sobre la tier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halación de materiales radioactiv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gestión de materiales radioactiv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laneación de Zonas de Emergenci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 un radio de 10 millas, las personas pueden verse dañadas por exposición directa a la radi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 un radio de 50 millas, los materiales radioactivos pueden contaminar los suministros de agua, las cosechas y el gan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inimización de Exposición a Radiació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istanc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fug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érminos de una Emergencia Nucle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tificación de evento inusu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er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mergencia en el sit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mergencia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edidas de Concientizació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prenda el sistema de emergencia de la comun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btenga información pública de emergenc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prenda los planes de emergenc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urante una Emergencia en </a:t>
            </a:r>
            <a:br>
              <a:rPr sz="2800"/>
            </a:b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una Planta de Energía Nucle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cuche las advertenc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éngase comunicado por radio o televis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acue si así se le indic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no se le indica evacuar, cree un refugio en sit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fugie y alimente al ganado si el tiempo se lo permi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utilice el teléfon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sospecha que ha estado expuesto, dúchese perfecta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ubra o refrigere los aliment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1430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Durante una Emergencia en </a:t>
            </a:r>
            <a:br>
              <a:rPr sz="2600"/>
            </a:b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una Planta de Energía Nuclear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7-21T21:32:54Z</dcterms:modified>
  <cp:revision>261</cp:revision>
  <dc:subject/>
  <dc:title>September 11, 2001 Lessons Learned</dc:title>
</cp:coreProperties>
</file>