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a Inundación Ocurre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ando un cuerpo de agua se eleva hasta cubrir lo que normalmente es tierra sec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ausas de las Inundacio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uvia abunda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rretimiento de la nieve en la primave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allas en presas y diq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aja absorción o falta de permeabilidad del su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unit1_24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Factores que Contribuyen a la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nsidad de la lluv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uración de la lluv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pograf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diciones del su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ubrimiento de la tier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unit1_25" descr=""/>
          <p:cNvPicPr/>
          <p:nvPr/>
        </p:nvPicPr>
        <p:blipFill>
          <a:blip r:embed="rId2"/>
          <a:stretch/>
        </p:blipFill>
        <p:spPr>
          <a:xfrm>
            <a:off x="4800600" y="3594240"/>
            <a:ext cx="3505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ligros de una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a caída de lluvia considerable exacerba problemas de residuos, absorción y medidas de control de inund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desbordamiento de ríos puede potencialmente inundar una ciudad o áreas río abajo cuando las protecciones fall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 áreas rocosas, la falta de absorción puede ocasionar inundaciones repenti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de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4,000 comunidades y 100 millones de personas se encuentran en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daños se incrementan cuando existen desarrollos 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Áreas coster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ic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" name="unit1_26" descr=""/>
          <p:cNvPicPr/>
          <p:nvPr/>
        </p:nvPicPr>
        <p:blipFill>
          <a:blip r:embed="rId2"/>
          <a:stretch/>
        </p:blipFill>
        <p:spPr>
          <a:xfrm>
            <a:off x="4800600" y="3594240"/>
            <a:ext cx="3505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Ante una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ozca los riesgos de inundación en el áre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e un plan de evacuación por inund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tenga un seguro contra inund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sus documentos en una caja a prueba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tenga información actualizada en una radio portáti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unit1_27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otección de Propiedades Contra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eve el radiador, calentador de agua y tablero eléctric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eva los muebles y otros artículos a un nivel más al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ale válvulas de revi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teja el sótano y los muros contra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28195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i Tiene que Evacu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camine, nade o conduzca a través de la inund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 puentes bajo los cuales se mueva el agua rápid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truya barrica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éngase alejado de las corrientes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los desagües y l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ques de irrig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819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pués de una Inund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anezca alejado de las áreas inunda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erve el uso del teléfono para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conducir excepto en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594240"/>
            <a:ext cx="3505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22:05:20Z</dcterms:modified>
  <cp:revision>272</cp:revision>
  <dc:subject/>
  <dc:title>September 11, 2001 Lessons Learned</dc:title>
</cp:coreProperties>
</file>