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09480" y="374976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1400" y="160020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74976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1400" y="374976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63400" y="160020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17320" y="160020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09480" y="374976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63400" y="374976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17320" y="374976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1400" y="160020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143000" y="759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1400" y="160020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09480" y="374976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1400" y="160020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1400" y="374976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1400" y="160020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09480" y="374976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22032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99"/>
                </a:solidFill>
                <a:latin typeface="Arial"/>
              </a:rPr>
              <a:t>Un Deslizamiento de Tierra Es . . . 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Un movimiento rápido de una masa de tierra, comúnmente relacionado con períodos de lluvia intensa o fusión rápida de nieve, el cual tiende a empeorar los efectos de una inundación que muchas veces acompaña a estos eventos.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5943600" y="3809880"/>
            <a:ext cx="1955880" cy="26035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99"/>
                </a:solidFill>
                <a:latin typeface="Arial"/>
              </a:rPr>
              <a:t>Áreas Propensas a los Deslizamientos de Tierra</a:t>
            </a: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Áreas con deslizamientos anteriore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Bases de colinas empinada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Bases de canales de drenaj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Colinas desarrolladas en las que se utilizan sistemas sépticos de filtración en campo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1T17:44:42Z</dcterms:created>
  <dc:creator>Eileen West</dc:creator>
  <dc:description/>
  <dc:language>en-US</dc:language>
  <cp:lastModifiedBy>Ana Elisa Benavent</cp:lastModifiedBy>
  <cp:lastPrinted>2001-11-28T13:14:08Z</cp:lastPrinted>
  <dcterms:modified xsi:type="dcterms:W3CDTF">2003-07-15T20:33:52Z</dcterms:modified>
  <cp:revision>266</cp:revision>
  <dc:subject/>
  <dc:title>September 11, 2001 Lessons Learned</dc:title>
</cp:coreProperties>
</file>