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Una Tormenta Invernal . . 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uede variar desde nieve moderada durante algunas horas hasta condiciones de tormenta con nieve cegadora por la fuerza del viento que dura varios día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iesgos de una Tormenta Invern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ccidentes automovilísticos y de otros transpor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gotamiento y ataques cardia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ipotermia/asfix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cendios en viviend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unit1_53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lementos de las Tormentas Invernal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ieve considera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iel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undación invern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rí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" name="unit1_54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ipos de Niev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rmen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áfaga de nie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orrasc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luvia de nie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unit1_55" descr=""/>
          <p:cNvPicPr/>
          <p:nvPr/>
        </p:nvPicPr>
        <p:blipFill>
          <a:blip r:embed="rId2"/>
          <a:stretch/>
        </p:blipFill>
        <p:spPr>
          <a:xfrm>
            <a:off x="4572000" y="349236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ipos de Hiel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guanie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luvia congela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rmenta de hiel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unit1_56" descr=""/>
          <p:cNvPicPr/>
          <p:nvPr/>
        </p:nvPicPr>
        <p:blipFill>
          <a:blip r:embed="rId2"/>
          <a:stretch/>
        </p:blipFill>
        <p:spPr>
          <a:xfrm>
            <a:off x="4572000" y="349236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La Inundación Invernal Incluye . . 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rmentas en la cos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cumulación de hiel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rretimiento de la nie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" name="unit1_57" descr=""/>
          <p:cNvPicPr/>
          <p:nvPr/>
        </p:nvPicPr>
        <p:blipFill>
          <a:blip r:embed="rId2"/>
          <a:stretch/>
        </p:blipFill>
        <p:spPr>
          <a:xfrm>
            <a:off x="5715000" y="3581280"/>
            <a:ext cx="26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fectos del Frí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fectos del viento en la temperatu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gel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ipoterm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Ante una Tormenta Invern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tienda el riesg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pare su hog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le servicio a su equipo para remoción de nie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lene el tanque de gasolina de su au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ste atención a las advertenc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urante una Tormenta Invernal . . 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manezca en interiores y vístase abrigada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a y beba con regular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erve combust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se encuentra en exteriores, protéjase de los pelig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" name="unit1_58" descr=""/>
          <p:cNvPicPr/>
          <p:nvPr/>
        </p:nvPicPr>
        <p:blipFill>
          <a:blip r:embed="rId2"/>
          <a:stretch/>
        </p:blipFill>
        <p:spPr>
          <a:xfrm>
            <a:off x="4419720" y="3645000"/>
            <a:ext cx="37843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7-30T23:35:26Z</dcterms:modified>
  <cp:revision>262</cp:revision>
  <dc:subject/>
  <dc:title>September 11, 2001 Lessons Learned</dc:title>
</cp:coreProperties>
</file>