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7720" y="3826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9720" y="167652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93640" y="167652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9720" y="3826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93640" y="3826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7720" y="3826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Una ola oceánica producida por un terremoto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o un deslizamiento submarino de tierra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Arial"/>
              </a:rPr>
              <a:t>Un Maremoto Es. . .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Arial"/>
              </a:rPr>
              <a:t>Riesgos que Representan los Maremoto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Los maremotos pueden ocasionar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Inundacion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Contaminación del agua potab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Incendios por la ruptura de tanques o tuberías de g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Pérdida de infraestructura comunitaria vit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" name="unit1_44" descr=""/>
          <p:cNvPicPr/>
          <p:nvPr/>
        </p:nvPicPr>
        <p:blipFill>
          <a:blip r:embed="rId2"/>
          <a:stretch/>
        </p:blipFill>
        <p:spPr>
          <a:xfrm>
            <a:off x="5029200" y="4083120"/>
            <a:ext cx="304812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Arial"/>
              </a:rPr>
              <a:t>Preparación Ante un Maremoto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Conozca los riesg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Planee y practique rutas de evacu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Platique sobre los </a:t>
            </a: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maremotos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 con su famili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Hable con su agente de segur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Utilice una radio climática NOA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" name="unit1_45" descr=""/>
          <p:cNvPicPr/>
          <p:nvPr/>
        </p:nvPicPr>
        <p:blipFill>
          <a:blip r:embed="rId2"/>
          <a:stretch/>
        </p:blipFill>
        <p:spPr>
          <a:xfrm>
            <a:off x="5257800" y="4114800"/>
            <a:ext cx="289548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99"/>
                </a:solidFill>
                <a:latin typeface="Arial"/>
              </a:rPr>
              <a:t>Si Ocurre un Fuerte Terremoto en la Costa . . 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Deje todo, cúbrase y espe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Cuando el movimiento cese, </a:t>
            </a: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eva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Evite cables eléctricos caídos, edificios y puen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Arial"/>
              </a:rPr>
              <a:t>Si se Emite una Advertencia de Maremot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Si se encuentra en un área de riesgo de maremotos, </a:t>
            </a: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evacu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e inmediatamen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Siga las instrucciones emitidas por las autoridades loca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Vaya a un lugar más alto y lo más alejado de la costa que le sea posib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Escuche una radio climática NOAA o una estación de radio en la frecuencia de emergencia de la Guardia Coster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Vuelva a casa únicamente si las autoridades locales le indican que es seguro hacerl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7:44:42Z</dcterms:created>
  <dc:creator>Eileen West</dc:creator>
  <dc:description/>
  <dc:language>en-US</dc:language>
  <cp:lastModifiedBy>Cristina Sánchez Galindo</cp:lastModifiedBy>
  <cp:lastPrinted>2001-11-28T13:14:08Z</cp:lastPrinted>
  <dcterms:modified xsi:type="dcterms:W3CDTF">2003-07-21T20:01:44Z</dcterms:modified>
  <cp:revision>275</cp:revision>
  <dc:subject/>
  <dc:title>September 11, 2001 Lessons Learned</dc:title>
</cp:coreProperties>
</file>