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 Volcán Es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orificio a través del cual escapa roca derretida hacia la superficie de la Tierr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Volcánic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ases tóx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va y flujos piroclást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lizamientos de tier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remo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rupciones explosiv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35179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que lo Acompaña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lizamientos de Lodo (incluyendo avalancha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undaciones repenti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s fores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remo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remo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504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a Ceniza Volcán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casiona severos problemas respirator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sminuye la visibilidad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amina los suministros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casiona tormentas eléctr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mpe la operación de maquinar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apsa tech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0656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Ante una Erupción Volcán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ienda el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able con su agente de segu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e su estuche de suministros para el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e un plan de evacu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3594240"/>
            <a:ext cx="3505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a Erupción Volcán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ga las órdenes de evacu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áreas viento abajo y valles río abaj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tá en exteriores, protéjase de la caída de ceniz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árese para los peligros que l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compañ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24760" y="3429000"/>
            <a:ext cx="1562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pués de una Erupción Volcánica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 las áreas de caída de ceniza volcán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pie los techos de ceniza volcán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conducir durante la caída de ceniz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ufre de algún problema respiratorio, evite el contacto con cualquier cantidad de ceniz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8" name="unit1_52" descr=""/>
          <p:cNvPicPr/>
          <p:nvPr/>
        </p:nvPicPr>
        <p:blipFill>
          <a:blip r:embed="rId2"/>
          <a:stretch/>
        </p:blipFill>
        <p:spPr>
          <a:xfrm>
            <a:off x="5562720" y="4025880"/>
            <a:ext cx="2819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22:17:01Z</dcterms:modified>
  <cp:revision>265</cp:revision>
  <dc:subject/>
  <dc:title>September 11, 2001 Lessons Learned</dc:title>
</cp:coreProperties>
</file>