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eligros de un Incendi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sfixi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Hum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1" name="unit1_19" descr=""/>
          <p:cNvPicPr/>
          <p:nvPr/>
        </p:nvPicPr>
        <p:blipFill>
          <a:blip r:embed="rId2"/>
          <a:stretch/>
        </p:blipFill>
        <p:spPr>
          <a:xfrm>
            <a:off x="4521240" y="3568680"/>
            <a:ext cx="3784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esarrollo de un Plan Familiar de Incendi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stale alarmas de hum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dentifique rutas de esca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actique el plan de esca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actique alertar a los miembros de la famili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emorice el número telefónico de emergencia del departamento de bomber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" name="unit1_20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i se Inicia un Incendi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alga rápidam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Vaya a su lugar de reun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lame al departamento de bomber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7" name="unit1_21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3784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i No Puede Escap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loque telas húmedas alrededor de puertas y ventilacio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lame al departamento de bomber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ermanezca agachado y cerca de una ventan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bra las ventanas arriba y abaj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Ondee una tela de color brillante en la ventan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revención de Incendi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Busque los riesgos potenciales en su hog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speccione las estufas de madera y las chimeneas anualm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mpre únicamente calentadores “probados en laboratorio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ntenga los cerillos y los encendedores lejos del alcance de los niñ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vise el cableado eléctric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ntenga los combustibles lejos de la estuf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Tres Clases de Incendios Forestal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cendio superfici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cendio de tierr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cendio de copas de árbo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4" name="unit1_22" descr=""/>
          <p:cNvPicPr/>
          <p:nvPr/>
        </p:nvPicPr>
        <p:blipFill>
          <a:blip r:embed="rId2"/>
          <a:stretch/>
        </p:blipFill>
        <p:spPr>
          <a:xfrm>
            <a:off x="5562720" y="2514600"/>
            <a:ext cx="27432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reparación para un Incendio Forest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ntenga una manguera en el jardín que sea lo suficientemente larga para llegar a cualquier parte de la cas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dquiera una bomba de agua portátil que funcione con gasolin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quipe sus chimeneas y estufas con protectores para chisp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ntenga las herramientas para incendios a la man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tilice un diseño adecuado para los edificios y la jardinerí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urante un Incendio Forest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scuche la información de emergenci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fine a sus mascotas o déjelas al cuidado de un amigo o famili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ueva el mobiliario flamable hacia el centro de su cas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tire las cortinas flamab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ierre todas las puertas y ventan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espués de un Incendio Forest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enga precaución al volver a entr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speccione el techo inmediatam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Ordene inspecciones en los tanques de propano o de acei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vise la estabilidad de los árboles alrededor de la cas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 no cuenta con energía, revise el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terruptor princip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1" name="unit1_23" descr=""/>
          <p:cNvPicPr/>
          <p:nvPr/>
        </p:nvPicPr>
        <p:blipFill>
          <a:blip r:embed="rId2"/>
          <a:stretch/>
        </p:blipFill>
        <p:spPr>
          <a:xfrm>
            <a:off x="6286680" y="4051440"/>
            <a:ext cx="15620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7:44:42Z</dcterms:created>
  <dc:creator>Eileen West</dc:creator>
  <dc:description/>
  <dc:language>en-US</dc:language>
  <cp:lastModifiedBy>Ana Elisa Benavent</cp:lastModifiedBy>
  <cp:lastPrinted>2001-11-28T13:14:08Z</cp:lastPrinted>
  <dcterms:modified xsi:type="dcterms:W3CDTF">2003-07-15T19:54:59Z</dcterms:modified>
  <cp:revision>263</cp:revision>
  <dc:subject/>
  <dc:title>September 11, 2001 Lessons Learned</dc:title>
</cp:coreProperties>
</file>