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 Huracán E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área violenta de baja presión que se forma en el Océano Atlántico tropical entre Junio y Noviembr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que Presentan los Huracanes </a:t>
            </a:r>
            <a:br>
              <a:rPr sz="2800"/>
            </a:b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y las Tormentas Tropica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ientos intensos y lluvia que pued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ar y destruir estructur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evantar y mover estructuras y objetos inest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ar líneas de energ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r acompañados de torn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casionar erosión en la cos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casionar inund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oner en peligro la v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cala de Huracanes Saffir-Simps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inco categorías de torment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ide la velocidad del vi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luye la presión barométrica esperada y la ola de la tormen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" name="unit1_31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dísticas de Huraca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si 100 millones de estadounidenses se encuentran en riesg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14 millones viven en zonas en las que se han registrado vientos de más de 125 millas por ho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ás de 6 millones viven en áreas a las que llegan olas de tormen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81916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99"/>
                </a:solidFill>
                <a:latin typeface="Arial"/>
              </a:rPr>
              <a:t>Preparación para un Huracán/Tormenta Tropical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ozca sus rutas de riesgo y de evacu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e un pl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os suministros necesar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truya una propiedad a prueba de inund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as casas móviles y los objetos exteri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" name="unit1_33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ntes de un Huracá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oque tablas de madera en todas las ventanas y puertas de crist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e las baterí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macene alimentos no pereced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e el Sistema de Anuncio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de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37280" y="2819520"/>
            <a:ext cx="2397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 Huracá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no le aconsejan evacuar, permanezca en interi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éngase alerta del “ojo del huracán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éngase alerta de los torn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pués de un Huracán o Tormenta Tropic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vuelva a entrar al área hasta que sea seg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una linterna para inspeccionar los da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 líneas de energía caí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 necesario, desconecte los servicios públ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erve el teléfono para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e el Sistema de Anuncio d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19047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04:30:40Z</dcterms:modified>
  <cp:revision>274</cp:revision>
  <dc:subject/>
  <dc:title>September 11, 2001 Lessons Learned</dc:title>
</cp:coreProperties>
</file>