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Un Terremoto Es . . 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 movimiento súbito de una parte de la corteza terrestre ocasionado por la liberación súbita de tensiones, comúnmente a menos de 25 millas debajo de la superfici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años Ocasionados por Terremot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lapso de edific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en servicios públicos, estructuras y camin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endios y explos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estabilidad estructu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obabilidades de un Terremo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s mayores probabilidades de que ocurra un terremoto son e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Oeste de los Estados Uni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zona de la Falla de Nueva Madrid en Missouri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gunos lugares específicos de la costa Est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46240" y="3727440"/>
            <a:ext cx="33022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tadísticas de Terremot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15% de la población vive en zonas con el mayor potencial de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residentes de California enfrentan el mayor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atro millones de personas a lo largo de la zona de la Falla de Nueva Madrid se encuentran en gran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residentes de Massachusetts, Carolina del Norte y Carolina del Sur también se encuentran en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cala Richt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queño:  5.0 a 5.9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oderado:  6.0 a 6.9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yor:  7.0 a 7.9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orme:  8.0 o má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" name="unit1_16" descr=""/>
          <p:cNvPicPr/>
          <p:nvPr/>
        </p:nvPicPr>
        <p:blipFill>
          <a:blip r:embed="rId2"/>
          <a:stretch/>
        </p:blipFill>
        <p:spPr>
          <a:xfrm>
            <a:off x="5562720" y="2552760"/>
            <a:ext cx="27432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para un Terremo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rrollar un plan familiar para terremot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alizar simulacros de terremo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rrollar un plan para volver a reunir a los miembros de la famil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r un contacto familiar fuera del est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er suministros a la ma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para un Terremo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macenar los objetos pesados y rompibles en anaqueles baj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egurar libreros y calentadores de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talar tuberías flexible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over las camas lejos de las venta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over o asegurar objetos colgantes que se encuentren sobre camas, sillones o sill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er unos zapatos y una linterna debajo de la cam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429680" y="3124080"/>
            <a:ext cx="1562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urante un Terremo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je todo, cúbrase y espe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está en interiores, ¡quédese ahí!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está en exteriores, encuentre un punto lejos de edificios, árboles, iluminación de calles, líneas de energía y pasos a desni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está en un vehículo, conduzca hasta un lugar abierto y deténgas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spués de un Terremo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tinga los incendios pequeñ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impie los derram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peccione el hogar en busca de dañ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yude a sus vecin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éngase en contacto con el Sistema de Alerta en Emergencias (EA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pere réplic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86400" y="41022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7-21T05:04:33Z</dcterms:modified>
  <cp:revision>266</cp:revision>
  <dc:subject/>
  <dc:title>September 11, 2001 Lessons Learned</dc:title>
</cp:coreProperties>
</file>