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Un Tornado Es . . .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na poderosa tormenta de viento circular que puede estar acompañada de vientos de más de 250 millas por hora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Riesgos que Presentan los Tornado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s tornados pueden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rrancar árboles desde la raíz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struir edifici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rrancar estructuras y objet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Hacer volar desechos y vidri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Voltear autos y casas móvi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3505320"/>
            <a:ext cx="19558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scala Fujita de Daños por Vient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ide la fuerza del tornad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eis nivele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F0:  Daños liger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F1:  Daños moderad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F2:  Daños considerab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F3:  Daños sever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F4:  Daños devastador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F5:  Daños increíb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" name="unit1_40" descr=""/>
          <p:cNvPicPr/>
          <p:nvPr/>
        </p:nvPicPr>
        <p:blipFill>
          <a:blip r:embed="rId2"/>
          <a:stretch/>
        </p:blipFill>
        <p:spPr>
          <a:xfrm>
            <a:off x="5867280" y="2171880"/>
            <a:ext cx="27432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reparación Ante un Tornad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ozca el riesg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dentifique una “habitación segura”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prenda el sistema de advertencia de su comunida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alice simulacros familiares de tornad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9" name="unit1_41" descr=""/>
          <p:cNvPicPr/>
          <p:nvPr/>
        </p:nvPicPr>
        <p:blipFill>
          <a:blip r:embed="rId2"/>
          <a:stretch/>
        </p:blipFill>
        <p:spPr>
          <a:xfrm>
            <a:off x="4521240" y="3581280"/>
            <a:ext cx="37846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Señales de Tornad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Vientos considerab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Granizo muy grand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2" name="unit1_42" descr=""/>
          <p:cNvPicPr/>
          <p:nvPr/>
        </p:nvPicPr>
        <p:blipFill>
          <a:blip r:embed="rId2"/>
          <a:stretch/>
        </p:blipFill>
        <p:spPr>
          <a:xfrm>
            <a:off x="4521240" y="3581280"/>
            <a:ext cx="37846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Durante un Tornado . . 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ntenga puertas y ventanas cerrad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Vaya a la “habitación segura”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scuche el Sistema  de Anuncio de Emergencias o la radio climática NOA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" name="unit1_43" descr=""/>
          <p:cNvPicPr/>
          <p:nvPr/>
        </p:nvPicPr>
        <p:blipFill>
          <a:blip r:embed="rId2"/>
          <a:stretch/>
        </p:blipFill>
        <p:spPr>
          <a:xfrm>
            <a:off x="4800600" y="3581280"/>
            <a:ext cx="35053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7:44:42Z</dcterms:created>
  <dc:creator>Eileen West</dc:creator>
  <dc:description/>
  <dc:language>en-US</dc:language>
  <cp:lastModifiedBy>Cristina Sánchez Galindo</cp:lastModifiedBy>
  <cp:lastPrinted>2001-11-28T13:14:08Z</cp:lastPrinted>
  <dcterms:modified xsi:type="dcterms:W3CDTF">2003-07-21T03:53:57Z</dcterms:modified>
  <cp:revision>270</cp:revision>
  <dc:subject/>
  <dc:title>September 11, 2001 Lessons Learned</dc:title>
</cp:coreProperties>
</file>