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Los Materiales Peligrosos Son . . 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ustancias que, debido a su naturaleza química, presentan un riesgo potencial para la vida, la salud o las propiedades si se liberan o utilizan inadecuadament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Preparación Ante una Emergencia Química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i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ís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imin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pa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Seguridad en el Manejo de Químicos Casero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ea las instrucciones antes de utilizarl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macénelos en un lugar segur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e mezclar productos quím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unca fume mientras utiliza sustancias químic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impie los derrames inmediat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Durante una Emergencia con Químicos Casero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Si consume veneno: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Encuentre los contenedores inmediatamente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Llame al centro de control de envenenamientos y siga las instrucciones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Si la sustancia química entra a sus ojos: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Siga las instrucciones de emergencia del contenedor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Busque atención médica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Si ocurre un incendio o explosión: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Evacue la residencia inmediatamente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Muévase viento arriba para evitar respirar vapores tóxicos 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Llame al departamento de bomberos desde el exterior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Fuentes de Materiales Peligros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tas químic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ciones de servic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ospit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tios de desecho de materiales peligros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ehículos transportado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Preparación Ante un Incidente con Materiales Peligros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verigüe qué puede suced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luya los peligros en su plan familiar de emerg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actique y mantenga su pl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renda el sistema de advertencia e información de su comun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Durante un incidente con Materiales Peligroso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¡Abandone el área!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porte el incid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oye una advertencia, escuche las instrucc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Durante un Incidente con Materiales Peligroso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éjese del sitio del incid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se encuentra en exteriores, permanezca cuesta arriba y viento arrib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se encuentra en un vehículo motorizado, deténgase y busque refug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se le pide que evacue, hágalo inmediat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se le solicita, permanezca en interiores - haga un refugio en sit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i se le Pide que se Refugie en Siti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aga que los miembros de su familia y sus mascotas entr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ierre y asegure las puertas exteriores y las venta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ague los sistemas de aire acondicionado y ventil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aya a la habitación segura preseleccion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cciones Después del Inciden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vuelva a casa hasta que se le indi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bra ventanas y ventilaciones y encienda los ventilado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ga los procedimientos de descontamin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renda a limpiar la tierra y su propie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porte cualquier peligro reman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ocer el manejo de estos productos y cómo reaccionar durante una emergencia puede reducir el riesgo de lesione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Químicos Caser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íntomas de Envenenamien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ificultad para respir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rritación de ojos, piel, garganta o vías respirator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mbios en el color de la pi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olor de cabeza, visión borrosa, mare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rpeza o falta de coordin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lambres o diarre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7-21T20:28:10Z</dcterms:modified>
  <cp:revision>274</cp:revision>
  <dc:subject/>
  <dc:title>September 11, 2001 Lessons Learned</dc:title>
</cp:coreProperties>
</file>